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3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11.wmf" ContentType="image/x-wmf"/>
  <Override PartName="/ppt/media/image3.png" ContentType="image/png"/>
  <Override PartName="/ppt/media/image30.wmf" ContentType="image/x-wmf"/>
  <Override PartName="/ppt/media/image28.wmf" ContentType="image/x-wmf"/>
  <Override PartName="/ppt/media/image31.wmf" ContentType="image/x-wmf"/>
  <Override PartName="/ppt/media/image36.wmf" ContentType="image/x-wmf"/>
  <Override PartName="/ppt/media/image12.wmf" ContentType="image/x-wmf"/>
  <Override PartName="/ppt/media/image4.png" ContentType="image/png"/>
  <Override PartName="/ppt/media/image37.wmf" ContentType="image/x-wmf"/>
  <Override PartName="/ppt/media/image7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media/image5.wmf" ContentType="image/x-wmf"/>
  <Override PartName="/ppt/media/image35.wmf" ContentType="image/x-wmf"/>
  <Override PartName="/ppt/media/image15.png" ContentType="image/png"/>
  <Override PartName="/ppt/media/image32.wmf" ContentType="image/x-wmf"/>
  <Override PartName="/ppt/media/image2.wmf" ContentType="image/x-wmf"/>
  <Override PartName="/ppt/media/image25.wmf" ContentType="image/x-wmf"/>
  <Override PartName="/ppt/media/image1.jpeg" ContentType="image/jpeg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630988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E20-52DA-43CE-BF5C-1CF58C20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4DE-CDF4-4DFE-B7C3-B02C1F77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7AA2-2235-444F-B80B-F4D4BE05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D548-3424-4F1A-9B38-44989937E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0ADA-DC4C-45BD-B01E-A670840E7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07D-C477-417D-AA58-F0162C49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9A7-27B0-4E90-8019-E8E4378E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B6E-5338-43D8-BB63-5A25692C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9A0D-EB52-43B2-B77D-DC04AC9BD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F744-3C73-4E95-A44D-16D0BE57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66F-67E5-4AF2-84FF-D1D2B8B8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1B5-1D4A-4C9D-811C-6770043F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46A5-0B8B-4316-9357-29E990201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7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7772400" cy="24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 Cyr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ценка масштабов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и динамики изменения платежеспособного спроса на жилье и объемов жилищного строительства в России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920" y="5013000"/>
            <a:ext cx="6400800" cy="685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Моск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 Cyr"/>
              </a:rPr>
              <a:t>Фонд «Институт экономики го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4941720"/>
            <a:ext cx="761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6920" y="602136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По заказу ОАО «Банк внешней торговли» (Внешторгбан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CDBD-B674-438D-8C4A-FCEF6545CEC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Жилищные потребности населения в 2003 г. (в % от всех домохозяйст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324000" y="1130400"/>
          <a:ext cx="8424720" cy="274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30400"/>
                    <a:ext cx="8424720" cy="27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46040" y="3784680"/>
          <a:ext cx="7845480" cy="30607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6040" y="3784680"/>
                    <a:ext cx="784548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A9A1-AE5F-40E5-9EC3-6E6357021CC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Другие способы улучшения жилищных условий (кроме приобретения и строительства жилья на рынк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4160" y="3854520"/>
          <a:ext cx="11504520" cy="2311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3854520"/>
                    <a:ext cx="1150452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250920" y="1773360"/>
            <a:ext cx="698508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ля домохозяйств, желающих улучшить жилищные условия другими способами, % от всех домохозяй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738920" y="2095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.3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BA95-4654-4F69-9F90-477B63F8884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мохозяйства, желающие улучшать жилищные условия другими способами или не видящие возможности улучшать жилищные услов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79280" y="2133720"/>
          <a:ext cx="4537080" cy="324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133720"/>
                    <a:ext cx="453708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356000" y="2629080"/>
          <a:ext cx="4788000" cy="25351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56000" y="2629080"/>
                    <a:ext cx="4788000" cy="25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88EA-D304-4332-A382-38BD6726C8E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требность и спрос населения на жилье и жилищные кредиты по условиям 2003 г.  (в ценах 2003 г.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74760" y="1555920"/>
          <a:ext cx="8373960" cy="3859200"/>
        </p:xfrm>
        <a:graphic>
          <a:graphicData uri="http://schemas.openxmlformats.org/drawingml/2006/table">
            <a:tbl>
              <a:tblPr/>
              <a:tblGrid>
                <a:gridCol w="2114280"/>
                <a:gridCol w="693720"/>
                <a:gridCol w="698760"/>
                <a:gridCol w="695160"/>
                <a:gridCol w="695520"/>
                <a:gridCol w="695160"/>
                <a:gridCol w="695520"/>
                <a:gridCol w="695160"/>
                <a:gridCol w="695520"/>
                <a:gridCol w="695160"/>
              </a:tblGrid>
              <a:tr h="313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Потребность в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7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6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потребность в жилье д/х, готовых улучшить жилищные условия рыночными способ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7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3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8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н. кв. 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В т.ч.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90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539640" y="6165720"/>
            <a:ext cx="705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Оценки построены на основе данных опроса населения с учетом условий приобретения жилья по ценам 2003 г. Показатели не учитывают возможные ограничения по кредитованию населения и предложения жиль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489-241E-4254-A3D2-BAF5D84ADF8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домохозяйств в зависимости от предпочитаемой финансовой схемы приобретения жилья в 2004 г. (в % от домохозяйств)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900000" y="693720"/>
          <a:ext cx="7345440" cy="525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693720"/>
                    <a:ext cx="734544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54200" y="6062760"/>
            <a:ext cx="648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Среди всех респондентов, принявших участие в опросе, проведенного Центром Исследований РАМ в декабре 2003 - январе 2004 г., было отобрано 17,1% респондентов в возрасте от 21 до 50 лет и с совокупными доходами домохозяйства от 6 тыс. руб. в мес. (для Москвы – от 15 тыс. руб. в месяц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770-C6C4-4B78-B474-36E37C83DD9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Спрос на жилье в 2004 г. в зависимости от типа приобретаемого жилья, в млрд. руб. (в ценах 2003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84360" y="1846440"/>
            <a:ext cx="7624440" cy="3801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9640" y="5877000"/>
            <a:ext cx="561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опроса без учета домохозяйств, не определившихся со временем улучшения жилищных усло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9D4A-69B5-41B1-B26E-B322CE69AE9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отказа от использования банковских кредитов при покупке жилья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11280" y="1522440"/>
            <a:ext cx="7561080" cy="471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C8B-F432-43BB-B3EF-B63EC80E282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4464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ценка возможностей развития жилищного строительства и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1AD-0779-4E99-897E-E7055E401DF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0920" y="1947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ы объемов жилищного строительства в Рос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по оценке субъектов Российской Федер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6308640"/>
            <a:ext cx="7056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 экспертной оценке ИЭ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 Оценки построены на основе данных опроса населения и не включают социальное жил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79280" y="907920"/>
          <a:ext cx="8785440" cy="5256360"/>
        </p:xfrm>
        <a:graphic>
          <a:graphicData uri="http://schemas.openxmlformats.org/drawingml/2006/table">
            <a:tbl>
              <a:tblPr/>
              <a:tblGrid>
                <a:gridCol w="309600"/>
                <a:gridCol w="1020960"/>
                <a:gridCol w="2630520"/>
                <a:gridCol w="576000"/>
                <a:gridCol w="536760"/>
                <a:gridCol w="615960"/>
                <a:gridCol w="614160"/>
                <a:gridCol w="617760"/>
                <a:gridCol w="614160"/>
                <a:gridCol w="615960"/>
                <a:gridCol w="6336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прогно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bbe0e3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сохранении существующей ситуации в сфере жилищного строительства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ы строительства жилья в России по оценкам субъектов Российской федерации при условии увеличения платежеспособного спроса населения на жилье, млн. кв. 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 объемы строительства социального жилья, млн. кв. м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% к предыдущему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 по условиям 2003 г.(в ценах 2003г.)**, млн. кв. 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вень удовлетворения спроса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первом варианте прогнозов увеличения объемов жилищного строительств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 втором варианте прогнозов увеличения объемов жилищного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4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969696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E515-8E88-412B-BCBF-DD8E66993A7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гноз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бъектов Российской Федерации и муниципальных образовани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по структуре источников финансирования жилищного строительства,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5480" y="1415880"/>
          <a:ext cx="7264440" cy="5396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5480" y="1415880"/>
                    <a:ext cx="7264440" cy="53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ADE-E52D-4520-B611-03CB772D6C7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щая характеристика рынка жилья, потребности населения в улучшении жилищных условий и платежеспособного спроса на жилье и жилищные кредит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56C2-DE54-46F6-8A0B-BA29C23708B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сохранении существующей ситуации в сфере жилищного строительства прогнозируемыми объемами производства основных видов строительных материалов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9280" y="1197000"/>
          <a:ext cx="8713800" cy="4910040"/>
        </p:xfrm>
        <a:graphic>
          <a:graphicData uri="http://schemas.openxmlformats.org/drawingml/2006/table">
            <a:tbl>
              <a:tblPr/>
              <a:tblGrid>
                <a:gridCol w="601920"/>
                <a:gridCol w="2422440"/>
                <a:gridCol w="792000"/>
                <a:gridCol w="1081080"/>
                <a:gridCol w="1224000"/>
                <a:gridCol w="1440000"/>
                <a:gridCol w="11523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7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 6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0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395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6172200"/>
            <a:ext cx="619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сохранении существующей ситуации в сфере жилищного строитель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3E03-3BD1-4CF8-8BE4-7F3223CD097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179280" y="1197000"/>
          <a:ext cx="8785440" cy="4910040"/>
        </p:xfrm>
        <a:graphic>
          <a:graphicData uri="http://schemas.openxmlformats.org/drawingml/2006/table">
            <a:tbl>
              <a:tblPr/>
              <a:tblGrid>
                <a:gridCol w="606600"/>
                <a:gridCol w="2346120"/>
                <a:gridCol w="792360"/>
                <a:gridCol w="1027080"/>
                <a:gridCol w="1287360"/>
                <a:gridCol w="1513080"/>
                <a:gridCol w="121284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ноз увеличения объемов строительства жилья при условии увеличения платежеспособного спроса населения на жильё, тыс. м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возможно будет реализовать за счет планируемого увеличения объемов производства основных видов строительных материалов, тыс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ме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нов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орный железо-бе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изоляцион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овельные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факт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5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3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9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2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3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 7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7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4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 9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6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7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2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 8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8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8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5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2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 0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5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 7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 7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9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 2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 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5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3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2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 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0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6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 4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 7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 5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1189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жилищного строительства, который станет возможен при использовании всех потенциальных возможностей существующих производственных мощностей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о данным Госкомстата России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 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9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7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179280" y="6381720"/>
            <a:ext cx="571680" cy="2286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55640" y="6172200"/>
            <a:ext cx="712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хватка планируемого производства строительного материала для обеспечения прогнозируемого увеличения объемов строительства жилья при условии увеличения платежеспособного спроса населения на жиль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обеспеченности планируемых объемов строительства жилья при условии увеличения платежеспособного спроса населения на жилье прогнозируемыми объемами производства основных видов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оительных материал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5F53-F0AA-48D2-8F41-5DB345F5DC5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ношение прогнозируемых объемов ввода жилья в России и возможностей инженерно-технической инфраструктуры в городах по обеспечению жилищного стро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052640"/>
          <a:ext cx="8713800" cy="4557600"/>
        </p:xfrm>
        <a:graphic>
          <a:graphicData uri="http://schemas.openxmlformats.org/drawingml/2006/table">
            <a:tbl>
              <a:tblPr/>
              <a:tblGrid>
                <a:gridCol w="504720"/>
                <a:gridCol w="1584360"/>
                <a:gridCol w="1295280"/>
                <a:gridCol w="1944720"/>
                <a:gridCol w="1513080"/>
                <a:gridCol w="1871640"/>
              </a:tblGrid>
              <a:tr h="283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можности сетей и мощностей инженерно-технической инфраструктуры в городах (с учетом планируемого развития) по обеспечению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объемы ввода жилья в России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сохранении существующей ситуации в сфере жилищного строительства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гнозируемые максимально возможные объемы строительства жилья в России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возможностями инженерно-технической инфраструктуры по обеспечению нового строительства и прогнозируемыми объемами ввода жилья при условии   увеличения платежеспособного спроса населения на жилье, тыс. м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8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4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 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2 4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 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7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-1 1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4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9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 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3 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4 2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 3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5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2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6 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 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6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 7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1 4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 2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1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0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 2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5 0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 8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0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7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 4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6600"/>
                          </a:solidFill>
                          <a:latin typeface="Arial"/>
                          <a:ea typeface="Times New Roman"/>
                        </a:rPr>
                        <a:t>-16 6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59FA-5A12-4111-99EB-6E5EDB33F52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исполнительной власти муниципальных образов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9280" y="1484280"/>
          <a:ext cx="8785440" cy="4697280"/>
        </p:xfrm>
        <a:graphic>
          <a:graphicData uri="http://schemas.openxmlformats.org/drawingml/2006/table">
            <a:tbl>
              <a:tblPr/>
              <a:tblGrid>
                <a:gridCol w="4284720"/>
                <a:gridCol w="619200"/>
                <a:gridCol w="884160"/>
                <a:gridCol w="781200"/>
                <a:gridCol w="804600"/>
                <a:gridCol w="744840"/>
                <a:gridCol w="666720"/>
              </a:tblGrid>
              <a:tr h="596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рославл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ара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,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ладими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воросси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орно-Алтай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рян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м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абар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льяновс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D5D-5A37-4ABC-91FE-B8D34297582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179280" y="1341360"/>
          <a:ext cx="8785440" cy="5132520"/>
        </p:xfrm>
        <a:graphic>
          <a:graphicData uri="http://schemas.openxmlformats.org/drawingml/2006/table">
            <a:tbl>
              <a:tblPr/>
              <a:tblGrid>
                <a:gridCol w="4851360"/>
                <a:gridCol w="847800"/>
                <a:gridCol w="925560"/>
                <a:gridCol w="1081080"/>
                <a:gridCol w="107964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 показа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 зна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бол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ьший из отве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подготовительного периода для жилищного строительства (с момента подачи заявки до момента принятия административного акта о предоставлении разрешения на строительство)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организаций участвующих в согласованиях, экспертизе проектной документации, предоставлении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,1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личество подписей, которые необходимо получить на стадии согласования и экспертизы проектной документации, получения разрешения на строитель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ин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,6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та за предоставление земельного участк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нежная форма оплаты (доля от стоимости строительства жилого объек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,1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16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туральная форма оплаты (доля от количества квартир в объект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щая продолжительность реализации проектов жилищного строительства с момента принятия административного акта о разрешении на строительство до момента приемки объекта в эксплуатац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0" y="589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рганизационные условия и административные барьеры в жилищном строительстве на этапе предоставления земельных участков и разрешений на строительство многоквартирных жилых дом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фрагмент результатов опроса представителей крупнейших строительных компа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EB4-CE3C-47AF-B6F9-6B446BE7B4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тистика ответов представителей 45 крупнейших строительных компаний на вопрос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Что, по Вашему мнению, необходимо сделать для совершенствования процедур предоставления земельных участков, предоставления разрешений на строительство  и т.д. (распределите позиции по приоритетности, считая, что 6 обозначает наивысший приоритет, 5 – следующий по значению и т.д.)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84360" y="1844640"/>
            <a:ext cx="755784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A8F-1F66-43FC-A8F0-11334737178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татистика ответов представителей 45 крупнейших строительных компаний на вопрос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«Какие, на Ваш взгляд, существуют основные препятствия для увеличения Вашей компанией объемов строительства жилья (распределите нижеследующие позиции по приоритетности, считая, что 9 обозначает наивысший приоритет, 8 – следующий по значению и т.д.)»</a:t>
            </a:r>
            <a:br>
              <a:rPr sz="1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89840" cy="496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58A-1764-4EBC-AFCD-BE062D4CE13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уктура финансирования проектов жилищного строительства на разных этапах их реализации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324000" y="1413000"/>
          <a:ext cx="792144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413000"/>
                    <a:ext cx="7921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113E-3CF7-4219-BA8B-41F86583E60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оимость долевого участия в проектах жилищного строительства на различных этапах реализации проектов  в % от цены продажи 1 кв.м. жилья на этапе завершения строительства (до приемки здания в эксплуатацию)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46120" y="1562040"/>
          <a:ext cx="7770960" cy="5283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6120" y="1562040"/>
                    <a:ext cx="7770960" cy="52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931-63A0-4E28-BCA2-7FBB183D834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редняя структура расходов компании при реализации проекта жилищного строительства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по данным опроса 45 крупнейших строительных компаний)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144440" y="1270080"/>
          <a:ext cx="7043760" cy="44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4440" y="1270080"/>
                    <a:ext cx="7043760" cy="44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468360" y="5950080"/>
            <a:ext cx="7199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 В среднем по оценке строительных компаний 13 % от построенного объема квартир передается муниципалитетам в качестве оплаты предоставления земельного участка, 9% - на подключение к инженерным сетям и 4,5% - на иные рас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E7EC-1F3A-42C1-8F70-BC55B99E2339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зменение коэффициента доступности жилья в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1484280"/>
          <a:ext cx="8135640" cy="4681440"/>
        </p:xfrm>
        <a:graphic>
          <a:graphicData uri="http://schemas.openxmlformats.org/drawingml/2006/table">
            <a:tbl>
              <a:tblPr/>
              <a:tblGrid>
                <a:gridCol w="2376360"/>
                <a:gridCol w="1150920"/>
                <a:gridCol w="576360"/>
                <a:gridCol w="576000"/>
                <a:gridCol w="573120"/>
                <a:gridCol w="546120"/>
                <a:gridCol w="533520"/>
                <a:gridCol w="534960"/>
                <a:gridCol w="614520"/>
                <a:gridCol w="653760"/>
              </a:tblGrid>
              <a:tr h="85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ы измерения (до 1998 г. - тыс. руб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едушевые денежн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в меся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6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8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редняя цена на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8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57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9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7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3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19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59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й цены стандартной квартиры (54 кв.м.) и среднего годового дохода домохозяйства (3 чел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л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Соотношение среднего годового дохода домохозяйства (3 человека) и средней цены 1 кв. ме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 Cyr"/>
                        </a:rPr>
                        <a:t>кв. метры /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"/>
          <p:cNvSpPr/>
          <p:nvPr/>
        </p:nvSpPr>
        <p:spPr>
          <a:xfrm>
            <a:off x="539640" y="62499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8B28-6BC8-489B-A14F-5D3A79E338C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изменения предложения жилищных кредитов населению 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79280" y="1700280"/>
          <a:ext cx="8498160" cy="4672080"/>
        </p:xfrm>
        <a:graphic>
          <a:graphicData uri="http://schemas.openxmlformats.org/drawingml/2006/table">
            <a:tbl>
              <a:tblPr/>
              <a:tblGrid>
                <a:gridCol w="3745080"/>
                <a:gridCol w="790560"/>
                <a:gridCol w="631800"/>
                <a:gridCol w="534960"/>
                <a:gridCol w="536760"/>
                <a:gridCol w="536400"/>
                <a:gridCol w="534960"/>
                <a:gridCol w="536760"/>
                <a:gridCol w="650880"/>
              </a:tblGrid>
              <a:tr h="290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ое банками предложение жилищных кредитов (на основе опрос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предложения банками жилищных кредитов с учетом нормативов регулирования и прогнозов развития банковской системы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х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жняя грани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ые объемы жилищных кредитов при эмиссии ипотечных ценных бумаг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чет эмиссии ипотечных ценных бумаг банками (на основе оценок экспертов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миссии ипотечных ценных бумаг АИЖК (на основе оценки АИЖК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объемы инвестирования в ипотечные ценные бумаги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 04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селения на жилищные кредиты (по данным опроса населения и по условиям 2003 г.), млрд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7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0DF-4F26-4AA2-9B0C-CBA3E43D35B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ланируемые объемы инвестировани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ипотечные ценные бумаги в текущих ценах (млрд. руб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324000" y="1917720"/>
            <a:ext cx="8569080" cy="381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B63-030E-4DDC-A1CA-B7D4D46431D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инамика предложения банками кредитов застройщикам жилья, в текущих ценах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по результатам анкетного опроса банков)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2031840"/>
          <a:ext cx="8229600" cy="3176640"/>
        </p:xfrm>
        <a:graphic>
          <a:graphicData uri="http://schemas.openxmlformats.org/drawingml/2006/table">
            <a:tbl>
              <a:tblPr/>
              <a:tblGrid>
                <a:gridCol w="2932200"/>
                <a:gridCol w="757080"/>
                <a:gridCol w="758880"/>
                <a:gridCol w="754200"/>
                <a:gridCol w="755640"/>
                <a:gridCol w="758880"/>
                <a:gridCol w="755640"/>
                <a:gridCol w="75708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й планируемый объем кредитов застройщикам 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 со стороны застройщиков (по данным опроса регион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4CD-9D45-4F42-B4CE-A55E41A6270B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результат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рогнозных оцен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основе модели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F72-6434-4B4D-9734-B0B4DE016BA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кроэкономические показатели, используемые в прогнозных оцен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1600200"/>
          <a:ext cx="8002440" cy="4286160"/>
        </p:xfrm>
        <a:graphic>
          <a:graphicData uri="http://schemas.openxmlformats.org/drawingml/2006/table">
            <a:tbl>
              <a:tblPr/>
              <a:tblGrid>
                <a:gridCol w="2581200"/>
                <a:gridCol w="604800"/>
                <a:gridCol w="600120"/>
                <a:gridCol w="608040"/>
                <a:gridCol w="600120"/>
                <a:gridCol w="601560"/>
                <a:gridCol w="601920"/>
                <a:gridCol w="603000"/>
                <a:gridCol w="600120"/>
                <a:gridCol w="601560"/>
              </a:tblGrid>
              <a:tr h="526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азовы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ссимистический сценар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декс потребительских цен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альные располагаемые доходы населения, % к пред. период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DCB-FA7C-428E-BAF6-FF0B61B3D5A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азовы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2B9-EBCB-404F-9CAB-EF820E4EACF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прогнозируемых объемов жилищного строительства (базовый сценар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1628640"/>
          <a:ext cx="7920000" cy="4481640"/>
        </p:xfrm>
        <a:graphic>
          <a:graphicData uri="http://schemas.openxmlformats.org/drawingml/2006/table">
            <a:tbl>
              <a:tblPr/>
              <a:tblGrid>
                <a:gridCol w="1008000"/>
                <a:gridCol w="3382920"/>
                <a:gridCol w="503280"/>
                <a:gridCol w="504720"/>
                <a:gridCol w="505080"/>
                <a:gridCol w="503280"/>
                <a:gridCol w="504720"/>
                <a:gridCol w="503280"/>
                <a:gridCol w="50472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риант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Перв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, млн. кв. 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,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,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,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,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Второ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строительства жилья в России при условии увеличения платежеспособного спроса населения и  сокращения административных ограничений и решения проблем, тормозящих развитие строительства, млн. кв. 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,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,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,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ыдущему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,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,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,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D51C-9DC8-490D-8E4E-3313DE7E52A6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возможных объемов предложения банками жилищных кредитов населению (базовый сценарий)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2041560"/>
          <a:ext cx="8229600" cy="3403440"/>
        </p:xfrm>
        <a:graphic>
          <a:graphicData uri="http://schemas.openxmlformats.org/drawingml/2006/table">
            <a:tbl>
              <a:tblPr/>
              <a:tblGrid>
                <a:gridCol w="2409840"/>
                <a:gridCol w="819000"/>
                <a:gridCol w="819360"/>
                <a:gridCol w="820800"/>
                <a:gridCol w="819000"/>
                <a:gridCol w="820800"/>
                <a:gridCol w="820800"/>
                <a:gridCol w="9000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Первый вариант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аксимальное планируемое банками предложение жилищных кредитов (на основе опросов), млрд. руб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торой вариант: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е объемы жилищных кредитов при эмиссии ипотечных ценных бумаг, млрд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3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4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6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1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2E2B-5285-48E8-928B-2DA028D06E4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арианты базового сцена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85800" y="1773360"/>
          <a:ext cx="7772400" cy="4322520"/>
        </p:xfrm>
        <a:graphic>
          <a:graphicData uri="http://schemas.openxmlformats.org/drawingml/2006/table">
            <a:tbl>
              <a:tblPr/>
              <a:tblGrid>
                <a:gridCol w="1509840"/>
                <a:gridCol w="1224000"/>
                <a:gridCol w="2379600"/>
                <a:gridCol w="2658960"/>
              </a:tblGrid>
              <a:tr h="5169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8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ы жилищного кредит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1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Инерционный вариа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 Увеличение строи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2 вариант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Развитие рынка жилищных креди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 Проведение всех рефор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120E-6FAA-4729-BB91-41D66922F1C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23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Инерционный вариан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69920" y="836640"/>
          <a:ext cx="8794800" cy="5262480"/>
        </p:xfrm>
        <a:graphic>
          <a:graphicData uri="http://schemas.openxmlformats.org/drawingml/2006/table">
            <a:tbl>
              <a:tblPr/>
              <a:tblGrid>
                <a:gridCol w="3322440"/>
                <a:gridCol w="106380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.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.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5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2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4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55680" indent="-355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7840" indent="-177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C68-5554-4EE0-AC32-530267055FA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эффициенты доступности жилья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4000" y="5904000"/>
            <a:ext cx="6624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и медианных показателей и среднедушевых доходов населения без верхнего децил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читаны с использованием методики ИЭ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1197000"/>
          <a:ext cx="827244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197000"/>
                    <a:ext cx="82724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AAD-E9DB-49E4-A991-11873D649021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оведение всех реформ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981000"/>
          <a:ext cx="8785440" cy="501660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.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.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701-B688-4DFD-8FA8-A09029E06BB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формирование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9280" y="907920"/>
          <a:ext cx="8785440" cy="5024520"/>
        </p:xfrm>
        <a:graphic>
          <a:graphicData uri="http://schemas.openxmlformats.org/drawingml/2006/table">
            <a:tbl>
              <a:tblPr/>
              <a:tblGrid>
                <a:gridCol w="3311640"/>
                <a:gridCol w="1065240"/>
                <a:gridCol w="601560"/>
                <a:gridCol w="588960"/>
                <a:gridCol w="630360"/>
                <a:gridCol w="642960"/>
                <a:gridCol w="644400"/>
                <a:gridCol w="642960"/>
                <a:gridCol w="65736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.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4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6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9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.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4436-2356-429D-8D74-91FD7D536D66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азвитие рынка жилищных кредитов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в текущих цена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8000" y="836640"/>
          <a:ext cx="9001080" cy="5235480"/>
        </p:xfrm>
        <a:graphic>
          <a:graphicData uri="http://schemas.openxmlformats.org/drawingml/2006/table">
            <a:tbl>
              <a:tblPr/>
              <a:tblGrid>
                <a:gridCol w="3241800"/>
                <a:gridCol w="1217520"/>
                <a:gridCol w="635040"/>
                <a:gridCol w="620640"/>
                <a:gridCol w="665280"/>
                <a:gridCol w="679320"/>
                <a:gridCol w="681120"/>
                <a:gridCol w="677880"/>
                <a:gridCol w="582480"/>
              </a:tblGrid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м рынка жил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н. м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.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.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.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спрос на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.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8.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5.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5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влетворенный спрос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.ч. удовлетворенный спрос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8.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3.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4.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5.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ь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удовлетворенного спроса на жилищные креди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.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я домохозяйств, улучшивших жилищные условия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имеющих потребность улучшить жилищные условия в данном год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 от домохозяйств, желающих улучшить жилищные условия на рын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A40B-17EB-4CE8-A2FE-D51AC931A882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1206360"/>
          <a:ext cx="8893080" cy="4378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06360"/>
                    <a:ext cx="8893080" cy="43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E017-5F70-4532-913D-CD91067AC22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цены жилья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395280" y="1700280"/>
          <a:ext cx="8470800" cy="3954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00280"/>
                    <a:ext cx="8470800" cy="39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116000" y="4797360"/>
            <a:ext cx="532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1666-395A-4150-96FB-1B4AD97552E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приобретения жиль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93840" y="1422360"/>
          <a:ext cx="847080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1422360"/>
                    <a:ext cx="847080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755640" y="6249960"/>
            <a:ext cx="655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 по средним ценам на жилье и доходам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B56-C6C7-49F4-A7E6-0A89634722CB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их жилищные условия (% от домохозяйств, имеющих потребность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30120" y="162864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62864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468360" y="6453360"/>
            <a:ext cx="568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0ACE-2CD3-43C0-87FD-2DD3C53BC38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оля домохозяйств, улучшившая жилищные условия (% от домохозяйств, имеющих потребность в приобретении (строительстве) жилья в данном го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68360" y="6453360"/>
            <a:ext cx="669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Экспертная оценка на основе данных Госкомстата и опроса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79280" y="1409760"/>
          <a:ext cx="8964720" cy="4852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409760"/>
                    <a:ext cx="8964720" cy="48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B354-D41A-4A6D-BFFC-F69838FC2AFE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менение минимальных реальных доходов, необходимых для приобретения стандартной квартиры с помощью креди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00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0%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330120" y="1739880"/>
          <a:ext cx="8445600" cy="3924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39880"/>
                    <a:ext cx="8445600" cy="39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87280" y="4149720"/>
            <a:ext cx="446436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469-3447-4483-8334-FE3E3465EC2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инимальные реальные доходы, необходимые для 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295200" y="1523880"/>
          <a:ext cx="8813880" cy="4330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5200" y="1523880"/>
                    <a:ext cx="88138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826240"/>
            <a:ext cx="85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A24-ADF1-4DE1-B089-D9BA8AEDF234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эффициент доступности жилья в регионах России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квартал 2003 го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9280" y="1890720"/>
          <a:ext cx="6264360" cy="432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1890720"/>
                    <a:ext cx="626436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6361200" y="2997360"/>
          <a:ext cx="2782800" cy="1726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361200" y="2997360"/>
                    <a:ext cx="27828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468360" y="6467400"/>
            <a:ext cx="633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Коэффициент рассчитан по средним показателям по 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01AA-967A-446B-BC13-24D79F454ACB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ля населения, которая имеет доходы, достаточные дл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обретения стандартной квартиры с помощью кредита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566100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В предположении, что семья из 3 человек приобретает стандартную квартиру площадью 54 кв. м. с привлечением кредитных средств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текущих условиях кредитования. Предполагается неизменная дифференциация населения по дох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39600" y="1574640"/>
          <a:ext cx="9039240" cy="3746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00" y="1574640"/>
                    <a:ext cx="9039240" cy="37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559-2299-4AE2-92A9-786038D6021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еализованный спрос на жилье (% от спроса на жилье)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54160" y="1627200"/>
          <a:ext cx="8928000" cy="4541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160" y="1627200"/>
                    <a:ext cx="8928000" cy="45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324000" y="6237360"/>
            <a:ext cx="6984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Показатель рассчитывается как отношение реализованного спроса на жилье (руб.) к  спросу на жилье (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B12-1AD5-4C99-B487-7C028CA38477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беспеченность жильем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кв. метров на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-146160" y="1413000"/>
          <a:ext cx="9290160" cy="424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46160" y="1413000"/>
                    <a:ext cx="929016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50920" y="5773680"/>
            <a:ext cx="72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Рассчитано по данным Госкомстата России с учетом итогов переписи населения 2003 г. в предположении выбытия жилищного фонда в 1% в год и постоянной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F072-88AB-41F6-A073-7425250ECC1E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Реализованный спрос на кредиты (% от спроса на кредиты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0" y="1717560"/>
          <a:ext cx="9144000" cy="3970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17560"/>
                    <a:ext cx="914400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9FCF-91A7-46AE-9008-49A3AF79A19E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Характеристика дисбаланса на рынках жи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E03-17E7-4B20-A939-CFDF7A48A29C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ервичный рынок жилья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30120" y="1778040"/>
          <a:ext cx="8636040" cy="3390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778040"/>
                    <a:ext cx="863604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31E1-135B-4C29-ACD4-732C955E5A3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Вторичный рынок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330120" y="1841400"/>
          <a:ext cx="8763120" cy="3675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841400"/>
                    <a:ext cx="8763120" cy="36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9EC1-ADF2-4E7B-9C25-DFD14342CF8B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ынок строительства жиль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0120" y="1562040"/>
          <a:ext cx="8508960" cy="3670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0120" y="1562040"/>
                    <a:ext cx="8508960" cy="36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127A-86E4-41FB-BB64-D2E1AFA67EC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ходы между сегментами рынка жилья в условиях дисбаланса спроса и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03280" y="1989000"/>
            <a:ext cx="194472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вичный рынок жил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1989000"/>
            <a:ext cx="180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торичный рынок жил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4221000"/>
            <a:ext cx="2305080" cy="9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"/>
          <p:cNvCxnSpPr>
            <a:stCxn id="229" idx="2"/>
            <a:endCxn id="231" idx="0"/>
          </p:cNvCxnSpPr>
          <p:nvPr/>
        </p:nvCxnSpPr>
        <p:spPr>
          <a:xfrm flipH="1" rot="16200000">
            <a:off x="2790000" y="2727000"/>
            <a:ext cx="1080000" cy="190908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rot="5400000">
            <a:off x="4734000" y="2691360"/>
            <a:ext cx="1080000" cy="1980360"/>
          </a:xfrm>
          <a:prstGeom prst="bentConnector3">
            <a:avLst>
              <a:gd name="adj1" fmla="val 499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9A93-E7B8-404E-B9E0-4E5D4CBE156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Характеристика дисбаланса на рынке жилищного строительства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инерционный вариа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1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11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68360" y="1239840"/>
          <a:ext cx="7797600" cy="269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239840"/>
                    <a:ext cx="7797600" cy="26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539640" y="3789360"/>
          <a:ext cx="7645680" cy="2900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9640" y="3789360"/>
                    <a:ext cx="7645680" cy="29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2B0-7863-4EB4-9C72-E7C8223BC346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инамика изменения реальных цен на жилье, средней стоимости строительства и реальных доходов населения (1996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00%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879560"/>
          <a:ext cx="7899480" cy="4267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879560"/>
                    <a:ext cx="78994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826920" y="6237360"/>
            <a:ext cx="561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D4F-BEC7-403E-91CF-60694B8F2B30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24000" y="2349360"/>
            <a:ext cx="8496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D500-84C6-4B46-818D-D830E34813E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ессимистический сцена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олее медленные по сравнению с базовым сценарием темпы роста реальных располагаемых доходов насел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жилищного строительства, предполагающее сохранение неизменными всех существующих административных барьеров, факторов и ограничений, влияющих на темпы роста объемов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изменения на рынках жилья и жилищных кредитов, изменения предпочтительных способов улучшения жилищных условий, развитие банковской системы и увеличение объемов жилищного кредитования происходят по более консервативному пути, более медленными темпам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30E5-4500-43D7-B475-358E86F5EC0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бъемы рынка жилья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93840" y="838080"/>
          <a:ext cx="8140680" cy="4902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3840" y="838080"/>
                    <a:ext cx="81406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395280" y="595008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Без учета инвестиционного спроса на жилье, спроса «внешних мигрантов», а также социального жилья и жилья, предоставленного за счет бюджетных субсид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AC9E-2920-4DD6-B7FF-74DCD0ECCE0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зменение средней рыночной реально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ны жилья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(2003 г. = 10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0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00000" y="4941720"/>
            <a:ext cx="5759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01520" y="1557360"/>
          <a:ext cx="9042480" cy="4280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520" y="1557360"/>
                    <a:ext cx="904248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9352-394D-4053-B2CB-5F1A2FC5706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ребуемые объемы строительства для удовлетворения спроса на жилье и сохранения реальных цен на жилье на уровне 2003 г. (при максимально возможном удовлетворении спроса на жилищные  креди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900000" y="1089000"/>
          <a:ext cx="7266240" cy="5653080"/>
        </p:xfrm>
        <a:graphic>
          <a:graphicData uri="http://schemas.openxmlformats.org/drawingml/2006/table">
            <a:tbl>
              <a:tblPr/>
              <a:tblGrid>
                <a:gridCol w="3702240"/>
                <a:gridCol w="507960"/>
                <a:gridCol w="509400"/>
                <a:gridCol w="509760"/>
                <a:gridCol w="507960"/>
                <a:gridCol w="511200"/>
                <a:gridCol w="507960"/>
                <a:gridCol w="509760"/>
              </a:tblGrid>
              <a:tr h="44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20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 Cyr"/>
                          <a:ea typeface="Times New Roman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жилье, млн. кв. м. общей площад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ос на кредиты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ительство жилья, млн. кв.м. общей площад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енциальные возможности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хватка потенциальных возможностей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 по предложению жилищных кредитов населению, млн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овской сферы по предоставлению кредитов застройщикам, млрд. руб. в тек. цена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устрии строительных материалов, 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щностей и сетей инженерной инфраструктуры в городах, млн. кв.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CD6-8395-477A-A22F-68BFA7F727B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24000" y="2494080"/>
            <a:ext cx="84960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сновные результаты и выво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43D1-0EE6-451E-86B3-C923F1A8D187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требность населения в улучшении жилищных условий (по результатам опроса насел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817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щая потребность  в жилье - 1 569,8 млн. кв. м (17 767,5 млрд. рублей в ценах 2003 г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требность в строительстве нового жилья - 1 291 млн. кв. м (14 612,6 млрд. руб.) (не менее 46,1% от существующего жилищного фонд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,4% всех домохозяйств уже сегодня потенциально могут приобрести жилье за счет собственных или заемных сред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3564-D9EA-4C97-9A3C-B121ECD1D4C4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и перспектив развития жилищного строитель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ближайшие  7 лет ожидается рост объемов строительства жилья, но спрос полностью не будет удовлетвор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мы ввода увеличатся с 36 млн. кв. м. в 2003 г. д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53 млн. кв. м в 2010 г. при сохранении существующих тенденций в развитии жилищного строительства и жилищного кредитования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72 млн. кв. м. в 2010 г. при варианте развития строительства в условиях увеличения платежеспособного спроса населения на жилье, снижения административных барьеров и решения других проблем в сфере жилищного строительст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Ограничени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инженерно-технической инфраструктур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азвитие кредитования застройщиков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275-CCDB-4EB4-815F-81FF6356C93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ценка возможностей развития жилищного кредит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же при максимальных планируемых банками объемах жилищного кредитования населения спрос на жилье будет существенно ограничен объемам предложения жилищных кредитов и удовлетворен не более, чем на 39% даже в 2010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 развитии рынка ипотечных ценных бумаг, спрос на жилищные кредиты может быть полностью удовлетворен начиная с 2007 г. При этом объем жилищного кредитования в 2010 г. составит 521 млрд. руб. (в ценах 2010 го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ценки банков по кредитованию застройщиков (131 – 137 млрд. руб. в год) существенно отстают от потребности застройщиков и составляют лишь 12 – 15% требуемых объемов кредит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2D8-0D9F-4D65-A2E6-51E2798C53BF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ые результаты прогнозных оценок (на основе моделирования спроса и предложения на рынке жиль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712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условии проведения необходимых реформ реализованный спрос на жилье, т.е. спрос, обеспеченный предложением, увеличится с 350 млрд. руб. в 2004 г. до 1,9 трлн. руб. в 2010 г. (в текущих ценах), составив в совокупности за рассматриваемый период 5,8 трлн. руб. (в ценах 2003 г.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В среднем за период с 2004 по 2010 гг. доля реализованного спроса на жилье составит 58%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всех реформ доля домохозяйств, которым будет доступно приобретение стандартной квартиры (54 кв. м.) за счет собственных средств и жилищных кредитов, увеличится от всей совокупности домохозяйств с 9% в 2003 г. до 31% в 2010 г. При инерционном варианте эта доля вырастет до 25%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ри проведении необходимых реформ возможна стабилизация реальных цен на жилье, начиная с 2007 г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340-4692-4151-A5D0-9C14768E6315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Динамика объемов ввода нового жилья и изменения цен на первичном и вторичном рынках жи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68360" y="1557360"/>
          <a:ext cx="7920000" cy="4421160"/>
        </p:xfrm>
        <a:graphic>
          <a:graphicData uri="http://schemas.openxmlformats.org/drawingml/2006/table">
            <a:tbl>
              <a:tblPr/>
              <a:tblGrid>
                <a:gridCol w="2367000"/>
                <a:gridCol w="912600"/>
                <a:gridCol w="546120"/>
                <a:gridCol w="557280"/>
                <a:gridCol w="558720"/>
                <a:gridCol w="557280"/>
                <a:gridCol w="558720"/>
                <a:gridCol w="557280"/>
                <a:gridCol w="619200"/>
                <a:gridCol w="685800"/>
              </a:tblGrid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д. измер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ввода нового жиль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лн. кв. м. в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% к пред. го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_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перв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ие цены на вторичном рынке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яя стоимость строительства жилья, на конец перио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ица между средней ценой жилья на первичном рынке и средней стоимостью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. за кв. мет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средней цены жилья на первичном рынке и средней стоимости строитель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2,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611280" y="6308640"/>
            <a:ext cx="56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 данным Госкомстата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AFF-E659-4EA8-8F33-7E3203AAE2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домохозяйствами текущего состояния своего жилья (в % от числа домохозяйств, в среднем по всей выбор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635520" cy="4899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116000" y="3500280"/>
            <a:ext cx="2016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оссия в цел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5774-5C46-4F0E-82AD-AD63144F67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Удовлетворенность населения жилищными условиями в 2003 г. (в % от домохозяйств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1640"/>
          <a:ext cx="8826480" cy="4861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1640"/>
                    <a:ext cx="8826480" cy="48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3DE-1A04-459D-8ACC-1E6BA323917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6:45:38Z</dcterms:created>
  <dc:creator>rogozhina</dc:creator>
  <dc:description/>
  <dc:language>en-US</dc:language>
  <cp:lastModifiedBy>Туманов Андрей</cp:lastModifiedBy>
  <dcterms:modified xsi:type="dcterms:W3CDTF">2004-06-03T08:24:35Z</dcterms:modified>
  <cp:revision>99</cp:revision>
  <dc:subject/>
  <dc:title>Слайд 1</dc:title>
</cp:coreProperties>
</file>