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222-927D-458B-B3A8-D7ED6716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E71-952A-4C58-9132-2503F00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3D8-DCEB-4A2A-B4D4-3C520F03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91E-3E04-4310-8911-104CCF0D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46A-E029-4014-AF30-4B82D1A0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35E-D18E-4642-8BC6-8FEC3587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EC0-94AD-48C0-B11C-BCE13157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6D7-BB13-4C00-825C-D6866D5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BED-85A1-4E79-B83E-15416D73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69E-F76E-42A1-AA88-7B624626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BA2-F48F-4519-BDD2-606C09E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298-7A0A-4246-BF2A-1FFB16C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475-0858-415A-927B-3B27EDDD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Cyr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ценка масштаб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динамики изменения платежеспособного спроса на жилье и объемов жилищного строительства в России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40080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9417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заказу ОАО «Банк внешней торговли» (Внешторг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51C-0301-4CA6-8024-32F055BB8B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щные потребности населения в 2003 г. (в % от всех домохозяй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130400"/>
          <a:ext cx="8424720" cy="27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0400"/>
                    <a:ext cx="8424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6040" y="3784680"/>
          <a:ext cx="7845480" cy="306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3784680"/>
                    <a:ext cx="7845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674-5ED0-4A9F-8BBD-0C6BE0D5A4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способы улучшения жилищных условий (кроме приобретения и строительства жилья на рын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4160" y="3854520"/>
          <a:ext cx="11504520" cy="23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3854520"/>
                    <a:ext cx="115045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0920" y="1773360"/>
            <a:ext cx="6985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домохозяйств, желающих улучшить жилищные условия другими способами, % от всех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3892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E61-74AE-417D-9C4E-111F0BE2EB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охозяйства, желающие улучшать жилищные условия другими способами или не видящие возможности улучшать жилищные услов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133720"/>
          <a:ext cx="453708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53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2629080"/>
          <a:ext cx="4788000" cy="2535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629080"/>
                    <a:ext cx="4788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4B7-FE43-486A-A032-E820B9CDAA7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ость и спрос населения на жилье и жилищные кредиты по условиям 2003 г.  (в ценах 2003 г.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4760" y="1555920"/>
          <a:ext cx="8373960" cy="3859200"/>
        </p:xfrm>
        <a:graphic>
          <a:graphicData uri="http://schemas.openxmlformats.org/drawingml/2006/table">
            <a:tbl>
              <a:tblPr/>
              <a:tblGrid>
                <a:gridCol w="2114280"/>
                <a:gridCol w="693720"/>
                <a:gridCol w="698760"/>
                <a:gridCol w="695160"/>
                <a:gridCol w="695520"/>
                <a:gridCol w="695160"/>
                <a:gridCol w="695520"/>
                <a:gridCol w="695160"/>
                <a:gridCol w="695520"/>
                <a:gridCol w="695160"/>
              </a:tblGrid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39640" y="616572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C19-4C8A-4465-A01C-7D89B1CBA2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мохозяйств в зависимости от предпочитаемой финансовой схемы приобретения жилья в 2004 г. (в % от домохозяйств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693720"/>
          <a:ext cx="734544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93720"/>
                    <a:ext cx="734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200" y="60627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Среди всех респондентов, принявших участие в опросе, проведенного Центром Исследований РАМ в декабре 2003 - январе 2004 г., было отобрано 17,1% респондентов в возрасте от 21 до 50 лет и с совокупными доходами домохозяйства от 6 тыс. руб. в мес. (для Москвы – от 15 тыс. руб. в месяц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B42-2C67-4927-AC9B-2011B54CB1A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с на жилье в 2004 г. в зависимости от типа приобретаемого жилья, в млрд. руб. (в ценах 2003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6440"/>
            <a:ext cx="7624440" cy="380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877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опроса без учета домохозяйств, не определившихся со временем улучшения жилищ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F3D-717B-4184-A5C1-17077ACFA9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тказа от использования банковских кредитов при покупке жиль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1280" y="1522440"/>
            <a:ext cx="7561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FC0-C571-4A15-8B12-23A3E3913E5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возможностей развития жилищного строительства и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154-ABAA-4D1B-B53A-8F6B9741DA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947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ы объемов жилищного строительства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по оценке субъект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308640"/>
            <a:ext cx="705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 экспертной оценке ИЭ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Оценки построены на основе данных опроса населения и не включают социальное 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309600"/>
                <a:gridCol w="1020960"/>
                <a:gridCol w="2630520"/>
                <a:gridCol w="576000"/>
                <a:gridCol w="536760"/>
                <a:gridCol w="615960"/>
                <a:gridCol w="614160"/>
                <a:gridCol w="617760"/>
                <a:gridCol w="614160"/>
                <a:gridCol w="615960"/>
                <a:gridCol w="6336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про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сохранении существующей ситуации в сфере жилищного строительства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условии увеличения платежеспособного спроса населения на жилье, млн. кв.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 по условиям 2003 г.(в ценах 2003г.)**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довлетворения спроса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вом варианте прогнозов увеличения объемов жилищного строи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тором варианте прогнозов увеличения объемов жилищного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69696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57B-057B-4B08-B243-51D7AE8A62B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 Российской Федерации и муниципальных образов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структуре источников финансирования жилищного строительства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5480" y="1415880"/>
          <a:ext cx="726444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415880"/>
                    <a:ext cx="7264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51B-22F2-452E-91A6-52E6590A35A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рынка жилья, потребности населения в улучшении жилищных условий и платежеспособного спроса на жилье и жилищные кред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150-D4BB-4A71-B816-0E122AB52D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сохранении существующей ситуации в сфере жилищного строительства прогнозируемыми объемами производства основных видов строительных материалов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713800" cy="4910040"/>
        </p:xfrm>
        <a:graphic>
          <a:graphicData uri="http://schemas.openxmlformats.org/drawingml/2006/table">
            <a:tbl>
              <a:tblPr/>
              <a:tblGrid>
                <a:gridCol w="601920"/>
                <a:gridCol w="2422440"/>
                <a:gridCol w="792000"/>
                <a:gridCol w="1081080"/>
                <a:gridCol w="1224000"/>
                <a:gridCol w="1440000"/>
                <a:gridCol w="11523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172200"/>
            <a:ext cx="61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сохранении существующей ситуации в сфере жилищного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3F6-FC88-40C8-AE3C-4D8CF907DCC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9280" y="1197000"/>
          <a:ext cx="8785440" cy="4910040"/>
        </p:xfrm>
        <a:graphic>
          <a:graphicData uri="http://schemas.openxmlformats.org/drawingml/2006/table">
            <a:tbl>
              <a:tblPr/>
              <a:tblGrid>
                <a:gridCol w="606600"/>
                <a:gridCol w="2346120"/>
                <a:gridCol w="792360"/>
                <a:gridCol w="1027080"/>
                <a:gridCol w="1287360"/>
                <a:gridCol w="1513080"/>
                <a:gridCol w="12128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строительства жилья при условии увеличения платежеспособного спроса населения на жильё, тыс. 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4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7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9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1722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условии увеличения платежеспособного спроса населения на жиль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условии увеличения платежеспособного спроса населения на жилье прогнозируемыми объемами производства основных видов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A22-C15F-4A28-9983-92FDA0F7A0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прогнозируемых объемов ввода жилья в России и возможностей инженерно-технической инфраструктуры в городах по обеспечению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052640"/>
          <a:ext cx="8713800" cy="4557600"/>
        </p:xfrm>
        <a:graphic>
          <a:graphicData uri="http://schemas.openxmlformats.org/drawingml/2006/table">
            <a:tbl>
              <a:tblPr/>
              <a:tblGrid>
                <a:gridCol w="504720"/>
                <a:gridCol w="1584360"/>
                <a:gridCol w="1295280"/>
                <a:gridCol w="1944720"/>
                <a:gridCol w="1513080"/>
                <a:gridCol w="1871640"/>
              </a:tblGrid>
              <a:tr h="28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ости сетей и мощностей инженерно-технической инфраструктуры в городах (с учетом планируемого развития) по обеспечению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объемы ввода жилья в России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максимально возможные объемы строительства жилья в России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2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 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4 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1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6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236-0635-4F46-B537-DC17E3F6F9E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исполнительной власти 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484280"/>
          <a:ext cx="8785440" cy="4697280"/>
        </p:xfrm>
        <a:graphic>
          <a:graphicData uri="http://schemas.openxmlformats.org/drawingml/2006/table">
            <a:tbl>
              <a:tblPr/>
              <a:tblGrid>
                <a:gridCol w="4284720"/>
                <a:gridCol w="619200"/>
                <a:gridCol w="884160"/>
                <a:gridCol w="781200"/>
                <a:gridCol w="804600"/>
                <a:gridCol w="744840"/>
                <a:gridCol w="66672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рослав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ра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,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о-Алта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ян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71E-9997-4962-9281-F3EF5E9ACF6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341360"/>
          <a:ext cx="8785440" cy="5132520"/>
        </p:xfrm>
        <a:graphic>
          <a:graphicData uri="http://schemas.openxmlformats.org/drawingml/2006/table">
            <a:tbl>
              <a:tblPr/>
              <a:tblGrid>
                <a:gridCol w="4851360"/>
                <a:gridCol w="847800"/>
                <a:gridCol w="925560"/>
                <a:gridCol w="1081080"/>
                <a:gridCol w="1079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крупнейших строительных комп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059-F9D6-423B-81B2-0620C219F86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ка ответов представителей 45 крупнейших строительных компаний на вопрос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  и т.д. (распределите позиции по приоритетности, считая, что 6 обозначает наивысший приоритет, 5 – следующий по значению и т.д.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578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D56-2050-4D24-A88C-C48C823A7AC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истика ответов представителей 45 крупнейших строительных компаний на вопрос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Какие, на Ваш взгляд, существуют основные препятствия для увеличения Вашей компанией объемов строительства жилья (распределите нижеследующие позиции по приоритетности, считая, что 9 обозначает наивысший приоритет, 8 – следующий по значению и т.д.)»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8984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667-5B80-47C7-B1C2-C9118A14688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финансирования проектов жилищного строительства на разных этапах их реализац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792144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7921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109-26AC-491A-8E63-D4A1E7EEACF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оимость долевого участия в проектах жилищного строительства на различных этапах реализации проектов  в % от цены продажи 1 кв.м. жилья на этапе завершения строительства (до приемки здания в эксплуатацию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6120" y="1562040"/>
          <a:ext cx="7770960" cy="528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20" y="1562040"/>
                    <a:ext cx="77709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5CB-F199-4A54-8371-7F9C5DE7C68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руктура расходов компании при реализации проекта жилищного строительств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440" y="1270080"/>
          <a:ext cx="704376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270080"/>
                    <a:ext cx="70437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68360" y="595008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 среднем по оценке строительных компаний 13 % от построенного объема квартир передается муниципалитетам в качестве оплаты предоставления земельного участка, 9% - на подключение к инженерным сетям и 4,5% - на иные рас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16D-2EC1-461C-AC3C-623F95B39AC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коэффициента доступности жил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484280"/>
          <a:ext cx="8135640" cy="4681440"/>
        </p:xfrm>
        <a:graphic>
          <a:graphicData uri="http://schemas.openxmlformats.org/drawingml/2006/table">
            <a:tbl>
              <a:tblPr/>
              <a:tblGrid>
                <a:gridCol w="2376360"/>
                <a:gridCol w="1150920"/>
                <a:gridCol w="576360"/>
                <a:gridCol w="576000"/>
                <a:gridCol w="573120"/>
                <a:gridCol w="546120"/>
                <a:gridCol w="533520"/>
                <a:gridCol w="534960"/>
                <a:gridCol w="614520"/>
                <a:gridCol w="653760"/>
              </a:tblGrid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 измерения (до 1998 г. - 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едушевые денежн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яя цена на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3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5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й цены стандартной квартиры (54 кв.м.) и среднего годового дохода домохозяйства (3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го годового дохода домохозяйства (3 человека) и средней цены 1 кв. 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кв. метры /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2499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966-92B7-4E2C-B469-CCD82F805DB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изменения предложения жилищных кредитов населению 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700280"/>
          <a:ext cx="8498160" cy="4672080"/>
        </p:xfrm>
        <a:graphic>
          <a:graphicData uri="http://schemas.openxmlformats.org/drawingml/2006/table">
            <a:tbl>
              <a:tblPr/>
              <a:tblGrid>
                <a:gridCol w="3745080"/>
                <a:gridCol w="790560"/>
                <a:gridCol w="631800"/>
                <a:gridCol w="534960"/>
                <a:gridCol w="536760"/>
                <a:gridCol w="536400"/>
                <a:gridCol w="534960"/>
                <a:gridCol w="536760"/>
                <a:gridCol w="650880"/>
              </a:tblGrid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банками предложение жилищных кредитов (на основе опрос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предложения банками жилищных кредитов с учетом нормативов регулирования и прогнозов развития банковской системы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жилищных кредитов при эмиссии ипотечных ценных бумаг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эмиссии ипотечных ценных бумаг банками (на основе оценок эксперт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 ипотечных ценных бумаг АИЖК (на основе оценки АИЖК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объемы инвестирования в ипотечные ценные бумаги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селения на жилищные кредиты (по данным опроса населения и по условиям 2003 г.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CBD-8FFA-4F61-8FB1-0BB89AAD5BD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е объемы инвестир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потечные ценные бумаги в текущих ценах (млрд.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7720"/>
            <a:ext cx="85690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D5B-563D-4EB9-99CF-2302C8E6368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предложения банками кредитов застройщикам жилья, в текущих цена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результатам анкетного опроса банков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031840"/>
          <a:ext cx="8229600" cy="3176640"/>
        </p:xfrm>
        <a:graphic>
          <a:graphicData uri="http://schemas.openxmlformats.org/drawingml/2006/table">
            <a:tbl>
              <a:tblPr/>
              <a:tblGrid>
                <a:gridCol w="2932200"/>
                <a:gridCol w="757080"/>
                <a:gridCol w="758880"/>
                <a:gridCol w="754200"/>
                <a:gridCol w="755640"/>
                <a:gridCol w="758880"/>
                <a:gridCol w="755640"/>
                <a:gridCol w="757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 со стороны застройщиков (по данным опроса регион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88D-914C-407F-A99E-EB5E35466F7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результа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ных оцен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модели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3D9-ECAC-4162-8BB9-6A6ECFF866D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, используемые в прогнозных оце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002440" cy="4286160"/>
        </p:xfrm>
        <a:graphic>
          <a:graphicData uri="http://schemas.openxmlformats.org/drawingml/2006/table">
            <a:tbl>
              <a:tblPr/>
              <a:tblGrid>
                <a:gridCol w="2581200"/>
                <a:gridCol w="604800"/>
                <a:gridCol w="600120"/>
                <a:gridCol w="608040"/>
                <a:gridCol w="600120"/>
                <a:gridCol w="601560"/>
                <a:gridCol w="601920"/>
                <a:gridCol w="603000"/>
                <a:gridCol w="600120"/>
                <a:gridCol w="601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ссимистически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D78-F29A-4AF8-8E1F-02B49B745A6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овы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9C9-0461-429A-8EAB-C69461CF344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прогнозируемых объемов жилищного строительства (базовый сценар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628640"/>
          <a:ext cx="7920000" cy="4481640"/>
        </p:xfrm>
        <a:graphic>
          <a:graphicData uri="http://schemas.openxmlformats.org/drawingml/2006/table">
            <a:tbl>
              <a:tblPr/>
              <a:tblGrid>
                <a:gridCol w="1008000"/>
                <a:gridCol w="3382920"/>
                <a:gridCol w="503280"/>
                <a:gridCol w="504720"/>
                <a:gridCol w="505080"/>
                <a:gridCol w="503280"/>
                <a:gridCol w="504720"/>
                <a:gridCol w="503280"/>
                <a:gridCol w="5047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в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, млн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торо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 при условии увеличения платежеспособного спроса населения и  сокращения административных ограничений и решения проблем, тормозящих развитие строительства, млн. кв.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129-41D2-4C36-B7D9-ACADB471655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возможных объемов предложения банками жилищных кредитов населению (базовый сценарий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41560"/>
          <a:ext cx="8229600" cy="3403440"/>
        </p:xfrm>
        <a:graphic>
          <a:graphicData uri="http://schemas.openxmlformats.org/drawingml/2006/table">
            <a:tbl>
              <a:tblPr/>
              <a:tblGrid>
                <a:gridCol w="2409840"/>
                <a:gridCol w="819000"/>
                <a:gridCol w="819360"/>
                <a:gridCol w="820800"/>
                <a:gridCol w="819000"/>
                <a:gridCol w="820800"/>
                <a:gridCol w="820800"/>
                <a:gridCol w="900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вый вариант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е планируемое банками предложение жилищных кредитов (на основе опросов), млрд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 вариант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е объемы жилищных кредитов при эмиссии ипотечных ценных бумаг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F8B-19A6-47C1-92BA-1A9B599353D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базового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4322520"/>
        </p:xfrm>
        <a:graphic>
          <a:graphicData uri="http://schemas.openxmlformats.org/drawingml/2006/table">
            <a:tbl>
              <a:tblPr/>
              <a:tblGrid>
                <a:gridCol w="1509840"/>
                <a:gridCol w="1224000"/>
                <a:gridCol w="2379600"/>
                <a:gridCol w="2658960"/>
              </a:tblGrid>
              <a:tr h="516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D67-C9F9-462E-9A89-273C5FD269D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ционный вариан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920" y="836640"/>
          <a:ext cx="8794800" cy="5262480"/>
        </p:xfrm>
        <a:graphic>
          <a:graphicData uri="http://schemas.openxmlformats.org/drawingml/2006/table">
            <a:tbl>
              <a:tblPr/>
              <a:tblGrid>
                <a:gridCol w="3322440"/>
                <a:gridCol w="106380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B51-D164-4AEA-A6FB-9CA401A2583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эффициенты доступности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904000"/>
            <a:ext cx="662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медианных показателей и среднедушевых доходов населения без верхнего деци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ы с использованием методики ИЭ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7244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72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C4A-F062-43D4-8AE5-97640A9F0CA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всех рефор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81000"/>
          <a:ext cx="8785440" cy="501660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0B3-F8C9-4146-AF8B-D6AA12DCC20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е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85440" cy="502452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1D9-C0FA-418F-89C1-5FD300009F2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ынка жилищных кредит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836640"/>
          <a:ext cx="9001080" cy="5235480"/>
        </p:xfrm>
        <a:graphic>
          <a:graphicData uri="http://schemas.openxmlformats.org/drawingml/2006/table">
            <a:tbl>
              <a:tblPr/>
              <a:tblGrid>
                <a:gridCol w="3241800"/>
                <a:gridCol w="1217520"/>
                <a:gridCol w="635040"/>
                <a:gridCol w="620640"/>
                <a:gridCol w="665280"/>
                <a:gridCol w="679320"/>
                <a:gridCol w="681120"/>
                <a:gridCol w="677880"/>
                <a:gridCol w="5824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F8E-7287-4E9E-B9CA-0D96FEFE8EE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06360"/>
          <a:ext cx="88930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6360"/>
                    <a:ext cx="88930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E21-FE02-40E0-83D8-564CD18A968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цены жиль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700280"/>
          <a:ext cx="8470800" cy="39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847080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4797360"/>
            <a:ext cx="532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DD6-1E16-48F0-AA76-600EE7C2FED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приобретения жил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3840" y="1422360"/>
          <a:ext cx="847080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422360"/>
                    <a:ext cx="847080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55640" y="62499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 по средним ценам на жилье и доходам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5EF-ACDA-4FBF-89EB-DD9914CAD82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их жилищные условия (% от домохозяйств, имеющих потребность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0120" y="162864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2864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545-35D0-4FF8-B7E0-67B43502832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ая жилищные условия (% от домохозяйств, имеющих потребность в приобретении (строительстве) жилья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45336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1409760"/>
          <a:ext cx="896472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09760"/>
                    <a:ext cx="896472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9F3-AE9B-44D1-A625-6E008F470BC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минимальных реальных доходов, необходимых для приобретения стандартной квартиры с помощью кред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0120" y="1739880"/>
          <a:ext cx="8445600" cy="39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39880"/>
                    <a:ext cx="8445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149720"/>
            <a:ext cx="446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23D-2A61-454A-B794-39EB18370DF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е реальные доходы, необходимые для 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5200" y="152388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152388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E4D-5D9E-4406-9C24-AFC0F478F49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жилья в регионах Росс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ртал 2003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890720"/>
          <a:ext cx="626436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720"/>
                    <a:ext cx="6264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61200" y="2997360"/>
          <a:ext cx="2782800" cy="17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1200" y="2997360"/>
                    <a:ext cx="27828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64674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рассчитан по средним показателям по 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1B5-92B3-4A5E-B1D4-69C5C10A953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населения, которая имеет доходы, достаточные д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661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 Предполагается неизменная дифференциация населения по до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600" y="1574640"/>
          <a:ext cx="9039240" cy="374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1574640"/>
                    <a:ext cx="90392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046-CB58-4A52-9B22-23FD2C0AC85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ованный спрос на жилье (% от спроса на жилье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4160" y="1627200"/>
          <a:ext cx="892800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627200"/>
                    <a:ext cx="8928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623736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казатель рассчитывается как отношение реализованного спроса на жилье (руб.) к  спросу на жилье (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D44-FEC3-4FB7-B1ED-DE53FFA9F77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еспеченность жилье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кв. метров на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146160" y="1413000"/>
          <a:ext cx="929016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6160" y="1413000"/>
                    <a:ext cx="9290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50920" y="57736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 с учетом итогов переписи населения 2003 г. в предположении выбытия жилищного фонда в 1% в год и постоянной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FC6-42FA-4789-B2B3-31246978EF8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еализованный спрос на кредиты (% от спроса на кредиты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17560"/>
          <a:ext cx="9144000" cy="39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17560"/>
                    <a:ext cx="91440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A89-23FD-4B9A-A706-F3B38F0E39C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арактеристика дисбаланса на рынках жи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3E4-C0F6-4D23-AC5B-11B65C1A30E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ервичный рынок жиль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0120" y="1778040"/>
          <a:ext cx="8636040" cy="339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78040"/>
                    <a:ext cx="8636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D24-37C0-4681-BEB5-AC7F67DD1DF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торичный рынок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120" y="1841400"/>
          <a:ext cx="8763120" cy="36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841400"/>
                    <a:ext cx="87631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F57-70F7-4645-B9F0-18FE30E1AD2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ынок строительства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0120" y="1562040"/>
          <a:ext cx="8508960" cy="367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62040"/>
                    <a:ext cx="8508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998-14BC-40B6-A5C6-0464BF31EB1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ы между сегментами рынка жилья в условиях дисбаланса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989000"/>
            <a:ext cx="194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ый рынок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198900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торичный рынок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4221000"/>
            <a:ext cx="230508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1" idx="0"/>
          </p:cNvCxnSpPr>
          <p:nvPr/>
        </p:nvCxnSpPr>
        <p:spPr>
          <a:xfrm flipH="1" rot="16200000">
            <a:off x="2790000" y="2727000"/>
            <a:ext cx="1080000" cy="19090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rot="5400000">
            <a:off x="4734000" y="2691360"/>
            <a:ext cx="1080000" cy="1980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F68-BDA4-40AF-8EE8-50E68B65805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а дисбаланса на рынке жилищного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39840"/>
          <a:ext cx="7797600" cy="26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39840"/>
                    <a:ext cx="77976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3789360"/>
          <a:ext cx="7645680" cy="290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789360"/>
                    <a:ext cx="76456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E19-ED8B-4ECC-AA6D-CF1B8A18A7F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879560"/>
          <a:ext cx="789948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79560"/>
                    <a:ext cx="789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C29-C836-464B-8291-D0AE31202E2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F6B-0293-44BD-B58F-F518624189F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медленные по сравнению с базовым сценарием темпы роста реальных располагаемых доходов насе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жилищного строительства, предполагающее сохранение неизменными всех существующих административных барьеров, факторов и ограничений, влияющих на темпы роста объемов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менения на рынках жилья и жилищных кредитов, изменения предпочтительных способов улучшения жилищных условий, развитие банковской системы и увеличение объемов жилищного кредитования происходят по более консервативному пути, более медленными темп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CEB-44DD-4936-9BF5-14590A95CEA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ы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3840" y="838080"/>
          <a:ext cx="8140680" cy="490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838080"/>
                    <a:ext cx="81406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878-F02A-4A53-BA26-7148FC169B4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жиль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4941720"/>
            <a:ext cx="575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520" y="1557360"/>
          <a:ext cx="9042480" cy="428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557360"/>
                    <a:ext cx="90424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DE2-C56B-4079-88F1-BFDE83C8A72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буемые объемы строительства для удовлетворения спроса на жилье и сохранения реальных цен на жилье на уровне 2003 г. (при максимально возможном удовлетворении спроса на жилищные  кред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89000"/>
          <a:ext cx="7266240" cy="5653080"/>
        </p:xfrm>
        <a:graphic>
          <a:graphicData uri="http://schemas.openxmlformats.org/drawingml/2006/table">
            <a:tbl>
              <a:tblPr/>
              <a:tblGrid>
                <a:gridCol w="3702240"/>
                <a:gridCol w="507960"/>
                <a:gridCol w="509400"/>
                <a:gridCol w="509760"/>
                <a:gridCol w="507960"/>
                <a:gridCol w="511200"/>
                <a:gridCol w="507960"/>
                <a:gridCol w="5097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, млн. кв. м.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жилья, млн. кв.м. общей площ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е возмож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ватка потенциальных возможносте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н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 в городах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99D-44EA-492F-9714-C82DFF9F8E5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результаты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3BA-8F79-4C15-9463-D2E9EE41B0C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ь населения в улучшении жилищных условий (по результатам опроса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требность  в жилье - 1 569,8 млн. кв. м (17 767,5 млрд. рублей в ценах 200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сть в строительстве нового жилья - 1 291 млн. кв. м (14 612,6 млрд. руб.) (не менее 46,1% от существующего жилищного фо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4% всех домохозяйств уже сегодня потенциально могут приобрести жилье за счет собственных или заем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6FD-FCF6-4740-A54F-35C243A4069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и перспектив развития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ы ввода увеличатся с 36 млн. кв. м. в 2003 г.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3 млн. кв. м в 2010 г. при сохранении существующих тенденций в развитии жилищного строительства и жилищного кредит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2 млн. кв. м. в 2010 г. при варианте развития строительства в условиях увеличения платежеспособного спроса населения на жилье, снижения административных барьеров и решения других проблем в сфере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E0D-3709-422B-9441-1C348BDFA28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развития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при максимальных планируемых банками объемах жилищного кредитования населения спрос на жилье будет существенно ограничен объемам предложения жилищных кредитов и удовлетворен не более, чем на 39% даже в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При этом объем жилищного кредитования в 2010 г. составит 521 млрд. руб. (в ценах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 банков по кредитованию застройщиков (131 – 137 млрд. руб. в год) существенно отстают от потребности застройщиков и составляют лишь 12 – 15% требуемых объемов креди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F75-73AC-461A-B502-3468179D3AC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результаты прогнозных оценок (на основе моделирования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условии проведения необходимых реформ реализованный спрос на жилье, т.е. спрос, обеспеченный предложением, увеличится с 350 млрд. руб. в 2004 г. до 1,9 трлн. руб. в 2010 г. (в текущих ценах), составив в совокупности за рассматриваемый период 5,8 трлн. руб. (в ценах 2003 г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всех реформ доля домохозяйств, которым будет доступно приобретение стандартной квартиры (54 кв. м.) за счет собственных средств и жилищных кредитов, увеличится от всей совокупности домохозяйств с 9% в 2003 г. до 31% в 2010 г. При инерционном варианте эта доля вырастет до 25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286-B137-4311-BC35-F6C3468446D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намика объемов ввода нового жилья и изменения цен на первичном и вторичном рынках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7920000" cy="4421160"/>
        </p:xfrm>
        <a:graphic>
          <a:graphicData uri="http://schemas.openxmlformats.org/drawingml/2006/table">
            <a:tbl>
              <a:tblPr/>
              <a:tblGrid>
                <a:gridCol w="2367000"/>
                <a:gridCol w="912600"/>
                <a:gridCol w="546120"/>
                <a:gridCol w="557280"/>
                <a:gridCol w="558720"/>
                <a:gridCol w="557280"/>
                <a:gridCol w="558720"/>
                <a:gridCol w="557280"/>
                <a:gridCol w="619200"/>
                <a:gridCol w="685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ввода нового ж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.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перв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втор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яя стоимость строительства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средней ценой жилья на первичном рынке и средней стоимостью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средней цены жилья на первичном рынке и средней стоимости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1280" y="63086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AB3-03BE-410D-B4BB-9750455DCE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домохозяйствами текущего состояния своего жилья (в % от числа домохозяйств, в среднем по всей выбо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635520" cy="489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3500280"/>
            <a:ext cx="20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я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7EA-FED7-48AE-8891-BCF4BFD678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ность населения жилищными условиями в 2003 г. (в % от домохозяйст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1640"/>
          <a:ext cx="8826480" cy="48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1640"/>
                    <a:ext cx="88264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102-41A4-4ED1-A565-7B4DB9FAFC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6:45:38Z</dcterms:created>
  <dc:creator>rogozhina</dc:creator>
  <dc:description/>
  <dc:language>en-US</dc:language>
  <cp:lastModifiedBy>Туманов Андрей</cp:lastModifiedBy>
  <dcterms:modified xsi:type="dcterms:W3CDTF">2004-06-03T08:24:35Z</dcterms:modified>
  <cp:revision>99</cp:revision>
  <dc:subject/>
  <dc:title>Слайд 1</dc:title>
</cp:coreProperties>
</file>