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630988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42A-46C0-4B7F-83C3-286601FE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4B8-0CA2-472D-B0EE-433183C5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307-BF3B-435B-9DE8-4F6025C2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25B-15E5-402B-83D7-2DE13E6B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D27-4761-45A2-BDAB-CD350F8B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9BD-7830-46A6-89C9-6213CD06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F39-EB06-4976-82A3-27FBF5FE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52F-E951-4595-8E52-BF6CAE41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30C-9138-4CFB-A1E3-50EA00EE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8BE-6714-48A6-995C-7B1DA50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2C5-73F6-4F7A-A9CA-662190B3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FDB-FBD3-4BAB-BF86-8E2465FB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935-D69E-45D4-BA80-FED742B48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Cyr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ценка масштаб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 динамики изменения платежеспособного спроса на жилье и объемов жилищного строительства в России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40080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Фонд «Институт экономики го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9417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021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о заказу ОАО «Банк внешней торговли» (Внешторгба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D45-86D4-4B3B-9D75-E11C8ACEF8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щные потребности населения в 2003 г. (в % от всех домохозяйст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130400"/>
          <a:ext cx="8424720" cy="274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30400"/>
                    <a:ext cx="8424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6040" y="3784680"/>
          <a:ext cx="7845480" cy="3060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040" y="3784680"/>
                    <a:ext cx="7845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DEE-EDC7-435F-9DE8-F0AAF69931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е способы улучшения жилищных условий (кроме приобретения и строительства жилья на рын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4160" y="3854520"/>
          <a:ext cx="11504520" cy="23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3854520"/>
                    <a:ext cx="115045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50920" y="1773360"/>
            <a:ext cx="69850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я домохозяйств, желающих улучшить жилищные условия другими способами, % от всех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38920" y="2095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D52-6F61-4313-879A-9C132F875B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охозяйства, желающие улучшать жилищные условия другими способами или не видящие возможности улучшать жилищные услов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2133720"/>
          <a:ext cx="453708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537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356000" y="2629080"/>
          <a:ext cx="4788000" cy="2535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629080"/>
                    <a:ext cx="47880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69B-EBB7-479D-849A-7A544416B8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ость и спрос населения на жилье и жилищные кредиты по условиям 2003 г.  (в ценах 2003 г.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74760" y="1555920"/>
          <a:ext cx="8373960" cy="3859200"/>
        </p:xfrm>
        <a:graphic>
          <a:graphicData uri="http://schemas.openxmlformats.org/drawingml/2006/table">
            <a:tbl>
              <a:tblPr/>
              <a:tblGrid>
                <a:gridCol w="2114280"/>
                <a:gridCol w="693720"/>
                <a:gridCol w="698760"/>
                <a:gridCol w="695160"/>
                <a:gridCol w="695520"/>
                <a:gridCol w="695160"/>
                <a:gridCol w="695520"/>
                <a:gridCol w="695160"/>
                <a:gridCol w="695520"/>
                <a:gridCol w="695160"/>
              </a:tblGrid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требность в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6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потребность в жилье д/х, готовых улучшить жилищные условия рыночными способ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3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 т.ч.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39640" y="6165720"/>
            <a:ext cx="70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Оценки построены на основе данных опроса населения с учетом условий приобретения жилья по ценам 2003 г. Показатели не учитывают возможные ограничения по кредитованию населения и предложения жил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17C-D1F7-4039-8FDE-DEA7E3E5E6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мохозяйств в зависимости от предпочитаемой финансовой схемы приобретения жилья в 2004 г. (в % от домохозяйств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693720"/>
          <a:ext cx="734544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93720"/>
                    <a:ext cx="7345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4200" y="6062760"/>
            <a:ext cx="64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Среди всех респондентов, принявших участие в опросе, проведенного Центром Исследований РАМ в декабре 2003 - январе 2004 г., было отобрано 17,1% респондентов в возрасте от 21 до 50 лет и с совокупными доходами домохозяйства от 6 тыс. руб. в мес. (для Москвы – от 15 тыс. руб. в месяц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F69-3A40-4060-826B-07F7DFF2C3D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с на жилье в 2004 г. в зависимости от типа приобретаемого жилья, в млрд. руб. (в ценах 2003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6440"/>
            <a:ext cx="7624440" cy="380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587700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опроса без учета домохозяйств, не определившихся со временем улучшения жилищны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9E2-A570-4743-8723-87784A2E20A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тказа от использования банковских кредитов при покупке жиль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11280" y="1522440"/>
            <a:ext cx="756108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B9C-C77F-4A4D-8177-F394950C25F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возможностей развития жилищного строительства и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C85-C688-4B48-AFB0-C7FF606220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947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ы объемов жилищного строительства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по оценке субъектов Российской Фед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308640"/>
            <a:ext cx="705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 экспертной оценке ИЭ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Оценки построены на основе данных опроса населения и не включают социальное жил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309600"/>
                <a:gridCol w="1020960"/>
                <a:gridCol w="2630520"/>
                <a:gridCol w="576000"/>
                <a:gridCol w="536760"/>
                <a:gridCol w="615960"/>
                <a:gridCol w="614160"/>
                <a:gridCol w="617760"/>
                <a:gridCol w="614160"/>
                <a:gridCol w="615960"/>
                <a:gridCol w="6336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про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сохранении существующей ситуации в сфере жилищного строительства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условии увеличения платежеспособного спроса населения на жилье, млн. кв.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 по условиям 2003 г.(в ценах 2003г.)**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довлетворения спроса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ервом варианте прогнозов увеличения объемов жилищного строи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тором варианте прогнозов увеличения объемов жилищного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69696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A14-4A73-4264-A0E7-49FA708B31A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ноз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ов Российской Федерации и муниципальных образов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структуре источников финансирования жилищного строительства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5480" y="1415880"/>
          <a:ext cx="7264440" cy="53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1415880"/>
                    <a:ext cx="726444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F71-39AA-4BB2-B7E4-31499C38871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рынка жилья, потребности населения в улучшении жилищных условий и платежеспособного спроса на жилье и жилищные креди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79A-DB00-42D1-B3B0-9D6BE4464FB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сохранении существующей ситуации в сфере жилищного строительства прогнозируемыми объемами производства основных видов строительных материалов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197000"/>
          <a:ext cx="8713800" cy="4910040"/>
        </p:xfrm>
        <a:graphic>
          <a:graphicData uri="http://schemas.openxmlformats.org/drawingml/2006/table">
            <a:tbl>
              <a:tblPr/>
              <a:tblGrid>
                <a:gridCol w="601920"/>
                <a:gridCol w="2422440"/>
                <a:gridCol w="792000"/>
                <a:gridCol w="1081080"/>
                <a:gridCol w="1224000"/>
                <a:gridCol w="1440000"/>
                <a:gridCol w="11523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95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6172200"/>
            <a:ext cx="61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сохранении существующей ситуации в сфере жилищного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FF5-65A0-411B-BBB9-93BC29D14B7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9280" y="1197000"/>
          <a:ext cx="8785440" cy="4910040"/>
        </p:xfrm>
        <a:graphic>
          <a:graphicData uri="http://schemas.openxmlformats.org/drawingml/2006/table">
            <a:tbl>
              <a:tblPr/>
              <a:tblGrid>
                <a:gridCol w="606600"/>
                <a:gridCol w="2346120"/>
                <a:gridCol w="792360"/>
                <a:gridCol w="1027080"/>
                <a:gridCol w="1287360"/>
                <a:gridCol w="1513080"/>
                <a:gridCol w="12128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строительства жилья при условии увеличения платежеспособного спроса населения на жильё, тыс. 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2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4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7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79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617220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условии увеличения платежеспособного спроса населения на жиль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условии увеличения платежеспособного спроса населения на жилье прогнозируемыми объемами производства основных видов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5A9-FFD3-43CE-A25A-4EB692B958C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ношение прогнозируемых объемов ввода жилья в России и возможностей инженерно-технической инфраструктуры в городах по обеспечению жилищного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052640"/>
          <a:ext cx="8713800" cy="4557600"/>
        </p:xfrm>
        <a:graphic>
          <a:graphicData uri="http://schemas.openxmlformats.org/drawingml/2006/table">
            <a:tbl>
              <a:tblPr/>
              <a:tblGrid>
                <a:gridCol w="504720"/>
                <a:gridCol w="1584360"/>
                <a:gridCol w="1295280"/>
                <a:gridCol w="1944720"/>
                <a:gridCol w="1513080"/>
                <a:gridCol w="1871640"/>
              </a:tblGrid>
              <a:tr h="28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можности сетей и мощностей инженерно-технической инфраструктуры в городах (с учетом планируемого развития) по обеспечению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объемы ввода жилья в России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максимально возможные объемы строительства жилья в России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2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 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9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 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4 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1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 2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5 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6 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460-E809-4C83-8C7F-56DBE788D5B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исполнительной власти муниципальных образ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484280"/>
          <a:ext cx="8785440" cy="4697280"/>
        </p:xfrm>
        <a:graphic>
          <a:graphicData uri="http://schemas.openxmlformats.org/drawingml/2006/table">
            <a:tbl>
              <a:tblPr/>
              <a:tblGrid>
                <a:gridCol w="4284720"/>
                <a:gridCol w="619200"/>
                <a:gridCol w="884160"/>
                <a:gridCol w="781200"/>
                <a:gridCol w="804600"/>
                <a:gridCol w="744840"/>
                <a:gridCol w="66672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рослав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ра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,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но-Алта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я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м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ян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B5C-233F-41A1-8F59-8BB733439D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1341360"/>
          <a:ext cx="8785440" cy="5132520"/>
        </p:xfrm>
        <a:graphic>
          <a:graphicData uri="http://schemas.openxmlformats.org/drawingml/2006/table">
            <a:tbl>
              <a:tblPr/>
              <a:tblGrid>
                <a:gridCol w="4851360"/>
                <a:gridCol w="847800"/>
                <a:gridCol w="925560"/>
                <a:gridCol w="1081080"/>
                <a:gridCol w="1079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0" y="58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крупнейших строительных комп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BC5-8912-413E-A6C2-CF08946CBBB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ка ответов представителей 45 крупнейших строительных компаний на вопрос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Что, по Вашему мнению, необходимо сделать для совершенствования процедур предоставления земельных участков, предоставления разрешений на строительство  и т.д. (распределите позиции по приоритетности, считая, что 6 обозначает наивысший приоритет, 5 – следующий по значению и т.д.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5784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974-827E-4AB9-A97E-CF5B7B0927D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истика ответов представителей 45 крупнейших строительных компаний на вопрос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Какие, на Ваш взгляд, существуют основные препятствия для увеличения Вашей компанией объемов строительства жилья (распределите нижеследующие позиции по приоритетности, считая, что 9 обозначает наивысший приоритет, 8 – следующий по значению и т.д.)»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8984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BE5-39A1-496A-A48E-D6A90C58CA3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финансирования проектов жилищного строительства на разных этапах их реализац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13000"/>
          <a:ext cx="7921440" cy="451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7921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213-618A-408A-A59B-62E005F62DF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оимость долевого участия в проектах жилищного строительства на различных этапах реализации проектов  в % от цены продажи 1 кв.м. жилья на этапе завершения строительства (до приемки здания в эксплуатацию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46120" y="1562040"/>
          <a:ext cx="7770960" cy="528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120" y="1562040"/>
                    <a:ext cx="77709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044-1839-4982-8893-D2ED0032D57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руктура расходов компании при реализации проекта жилищного строительств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440" y="1270080"/>
          <a:ext cx="7043760" cy="44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1270080"/>
                    <a:ext cx="70437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68360" y="5950080"/>
            <a:ext cx="719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 среднем по оценке строительных компаний 13 % от построенного объема квартир передается муниципалитетам в качестве оплаты предоставления земельного участка, 9% - на подключение к инженерным сетям и 4,5% - на иные рас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90B-3F22-4045-8900-586198C62D1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коэффициента доступности жилья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484280"/>
          <a:ext cx="8135640" cy="4681440"/>
        </p:xfrm>
        <a:graphic>
          <a:graphicData uri="http://schemas.openxmlformats.org/drawingml/2006/table">
            <a:tbl>
              <a:tblPr/>
              <a:tblGrid>
                <a:gridCol w="2376360"/>
                <a:gridCol w="1150920"/>
                <a:gridCol w="576360"/>
                <a:gridCol w="576000"/>
                <a:gridCol w="573120"/>
                <a:gridCol w="546120"/>
                <a:gridCol w="533520"/>
                <a:gridCol w="534960"/>
                <a:gridCol w="614520"/>
                <a:gridCol w="653760"/>
              </a:tblGrid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 измерения (до 1998 г. - 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едушевые денежн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яя цена на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7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3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5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й цены стандартной квартиры (54 кв.м.) и среднего годового дохода домохозяйства (3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го годового дохода домохозяйства (3 человека) и средней цены 1 кв. ме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кв. метры /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62499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3C9-CC1A-4E8C-B08F-6C0A9A948DC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изменения предложения жилищных кредитов населению 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700280"/>
          <a:ext cx="8498160" cy="4672080"/>
        </p:xfrm>
        <a:graphic>
          <a:graphicData uri="http://schemas.openxmlformats.org/drawingml/2006/table">
            <a:tbl>
              <a:tblPr/>
              <a:tblGrid>
                <a:gridCol w="3745080"/>
                <a:gridCol w="790560"/>
                <a:gridCol w="631800"/>
                <a:gridCol w="534960"/>
                <a:gridCol w="536760"/>
                <a:gridCol w="536400"/>
                <a:gridCol w="534960"/>
                <a:gridCol w="536760"/>
                <a:gridCol w="650880"/>
              </a:tblGrid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банками предложение жилищных кредитов (на основе опрос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предложения банками жилищных кредитов с учетом нормативов регулирования и прогнозов развития банковской системы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жилищных кредитов при эмиссии ипотечных ценных бумаг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эмиссии ипотечных ценных бумаг банками (на основе оценок эксперт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 ипотечных ценных бумаг АИЖК (на основе оценки АИЖК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объемы инвестирования в ипотечные ценные бумаги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0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селения на жилищные кредиты (по данным опроса населения и по условиям 2003 г.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CCD-68BC-4270-84B9-6BC8BEF1CC4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ируемые объемы инвестировани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потечные ценные бумаги в текущих ценах (млрд. ру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917720"/>
            <a:ext cx="856908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B03-CB2F-41CE-A409-0D066E1D484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предложения банками кредитов застройщикам жилья, в текущих цена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результатам анкетного опроса банков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031840"/>
          <a:ext cx="8229600" cy="3176640"/>
        </p:xfrm>
        <a:graphic>
          <a:graphicData uri="http://schemas.openxmlformats.org/drawingml/2006/table">
            <a:tbl>
              <a:tblPr/>
              <a:tblGrid>
                <a:gridCol w="2932200"/>
                <a:gridCol w="757080"/>
                <a:gridCol w="758880"/>
                <a:gridCol w="754200"/>
                <a:gridCol w="755640"/>
                <a:gridCol w="758880"/>
                <a:gridCol w="755640"/>
                <a:gridCol w="757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 со стороны застройщиков (по данным опроса регион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62D-B381-4E7D-922D-0C392C8240A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результа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ных оцено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модели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4D0-ACE0-4A07-AF42-1055FF7C9EE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, используемые в прогнозных оце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002440" cy="4286160"/>
        </p:xfrm>
        <a:graphic>
          <a:graphicData uri="http://schemas.openxmlformats.org/drawingml/2006/table">
            <a:tbl>
              <a:tblPr/>
              <a:tblGrid>
                <a:gridCol w="2581200"/>
                <a:gridCol w="604800"/>
                <a:gridCol w="600120"/>
                <a:gridCol w="608040"/>
                <a:gridCol w="600120"/>
                <a:gridCol w="601560"/>
                <a:gridCol w="601920"/>
                <a:gridCol w="603000"/>
                <a:gridCol w="600120"/>
                <a:gridCol w="601560"/>
              </a:tblGrid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зовы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ссимистически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7DD-D0DB-439A-8DE2-C57429CB0BB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зовы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973-0745-4932-8320-2A2FA44DB4F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прогнозируемых объемов жилищного строительства (базовый сценар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628640"/>
          <a:ext cx="7920000" cy="4481640"/>
        </p:xfrm>
        <a:graphic>
          <a:graphicData uri="http://schemas.openxmlformats.org/drawingml/2006/table">
            <a:tbl>
              <a:tblPr/>
              <a:tblGrid>
                <a:gridCol w="1008000"/>
                <a:gridCol w="3382920"/>
                <a:gridCol w="503280"/>
                <a:gridCol w="504720"/>
                <a:gridCol w="505080"/>
                <a:gridCol w="503280"/>
                <a:gridCol w="504720"/>
                <a:gridCol w="503280"/>
                <a:gridCol w="5047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ерв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, млн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торо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 при условии увеличения платежеспособного спроса населения и  сокращения административных ограничений и решения проблем, тормозящих развитие строительства, млн. кв.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A09-785D-4057-A543-F71EB57DA3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возможных объемов предложения банками жилищных кредитов населению (базовый сценарий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041560"/>
          <a:ext cx="8229600" cy="3403440"/>
        </p:xfrm>
        <a:graphic>
          <a:graphicData uri="http://schemas.openxmlformats.org/drawingml/2006/table">
            <a:tbl>
              <a:tblPr/>
              <a:tblGrid>
                <a:gridCol w="2409840"/>
                <a:gridCol w="819000"/>
                <a:gridCol w="819360"/>
                <a:gridCol w="820800"/>
                <a:gridCol w="819000"/>
                <a:gridCol w="820800"/>
                <a:gridCol w="820800"/>
                <a:gridCol w="900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вый вариант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ксимальное планируемое банками предложение жилищных кредитов (на основе опросов), млрд.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 вариант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е объемы жилищных кредитов при эмиссии ипотечных ценных бумаг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8D7-FF58-4B9C-A727-C38A2FC4130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базового сцен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4322520"/>
        </p:xfrm>
        <a:graphic>
          <a:graphicData uri="http://schemas.openxmlformats.org/drawingml/2006/table">
            <a:tbl>
              <a:tblPr/>
              <a:tblGrid>
                <a:gridCol w="1509840"/>
                <a:gridCol w="1224000"/>
                <a:gridCol w="2379600"/>
                <a:gridCol w="2658960"/>
              </a:tblGrid>
              <a:tr h="5169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кредит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ерционн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величение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Развитие рынка жилищных креди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оведение всех рефо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D7D-5A4A-4B29-BD9A-4FB9118ACB3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3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ционный вариан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920" y="836640"/>
          <a:ext cx="8794800" cy="5262480"/>
        </p:xfrm>
        <a:graphic>
          <a:graphicData uri="http://schemas.openxmlformats.org/drawingml/2006/table">
            <a:tbl>
              <a:tblPr/>
              <a:tblGrid>
                <a:gridCol w="3322440"/>
                <a:gridCol w="106380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B2D-CE92-4EE1-98EA-9E39158FE23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эффициенты доступности жилья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904000"/>
            <a:ext cx="6624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медианных показателей и среднедушевых доходов населения без верхнего деци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ы с использованием методики ИЭ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197000"/>
          <a:ext cx="827244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272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9E0-DF2E-468F-A097-1E7358C8DE1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всех реформ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81000"/>
          <a:ext cx="8785440" cy="501660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51C-43CC-4C45-88C2-FF52F638DC2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ирование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85440" cy="502452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8E4-6F97-465E-BF37-9EA227A9085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рынка жилищных кредит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836640"/>
          <a:ext cx="9001080" cy="5235480"/>
        </p:xfrm>
        <a:graphic>
          <a:graphicData uri="http://schemas.openxmlformats.org/drawingml/2006/table">
            <a:tbl>
              <a:tblPr/>
              <a:tblGrid>
                <a:gridCol w="3241800"/>
                <a:gridCol w="1217520"/>
                <a:gridCol w="635040"/>
                <a:gridCol w="620640"/>
                <a:gridCol w="665280"/>
                <a:gridCol w="679320"/>
                <a:gridCol w="681120"/>
                <a:gridCol w="677880"/>
                <a:gridCol w="5824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216-F0B6-48AA-973D-335D7E25AD1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06360"/>
          <a:ext cx="8893080" cy="437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06360"/>
                    <a:ext cx="88930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6C6-A458-4277-B1FB-E9B0B1ED143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цены жиль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700280"/>
          <a:ext cx="8470800" cy="395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00280"/>
                    <a:ext cx="847080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16000" y="4797360"/>
            <a:ext cx="532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F59-92AB-4E1C-9772-0FB792E902D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приобретения жил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3840" y="1422360"/>
          <a:ext cx="847080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422360"/>
                    <a:ext cx="847080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55640" y="624996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 по средним ценам на жилье и доходам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744-E8A2-4628-B41D-B168894185B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их жилищные условия (% от домохозяйств, имеющих потребность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0120" y="162864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62864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8360" y="645336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E7D-7B51-492B-A99C-412A41357A6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ая жилищные условия (% от домохозяйств, имеющих потребность в приобретении (строительстве) жилья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6453360"/>
            <a:ext cx="66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9280" y="1409760"/>
          <a:ext cx="8964720" cy="48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09760"/>
                    <a:ext cx="896472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C93-8C14-4D48-80F4-81A0A0EF8A9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минимальных реальных доходов, необходимых для приобретения стандартной квартиры с помощью кред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0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%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30120" y="1739880"/>
          <a:ext cx="8445600" cy="39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39880"/>
                    <a:ext cx="8445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4149720"/>
            <a:ext cx="446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B2B-71F6-4E0E-951C-836F6FC6A5F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ые реальные доходы, необходимые для 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95200" y="152388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200" y="152388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A87-BE3D-4A06-9716-C3BB174217B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жилья в регионах Росс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вартал 2003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890720"/>
          <a:ext cx="626436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720"/>
                    <a:ext cx="6264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361200" y="2997360"/>
          <a:ext cx="2782800" cy="17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61200" y="2997360"/>
                    <a:ext cx="27828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8360" y="6467400"/>
            <a:ext cx="63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рассчитан по средним показателям по 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CA3-73B2-48AE-B82D-8C8CD2EA034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населения, которая имеет доходы, достаточные д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661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 Предполагается неизменная дифференциация населения по дох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600" y="1574640"/>
          <a:ext cx="9039240" cy="374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1574640"/>
                    <a:ext cx="90392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64B-C1D0-4AD7-AE31-EA447569BC9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ованный спрос на жилье (% от спроса на жилье)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54160" y="1627200"/>
          <a:ext cx="892800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627200"/>
                    <a:ext cx="89280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4000" y="623736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казатель рассчитывается как отношение реализованного спроса на жилье (руб.) к  спросу на жилье (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683-6399-464C-94FB-5F16367BEBA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еспеченность жилье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кв. метров на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146160" y="1413000"/>
          <a:ext cx="9290160" cy="424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6160" y="1413000"/>
                    <a:ext cx="9290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50920" y="57736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 с учетом итогов переписи населения 2003 г. в предположении выбытия жилищного фонда в 1% в год и постоянной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627-848B-41B3-998E-E42F28469AD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еализованный спрос на кредиты (% от спроса на кредиты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717560"/>
          <a:ext cx="9144000" cy="39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17560"/>
                    <a:ext cx="91440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FA7-81E7-4EEA-BA01-0ACCC44D710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арактеристика дисбаланса на рынках жи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FA9-9778-455E-AAAA-4BE8A6DE15C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ервичный рынок жиль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30120" y="1778040"/>
          <a:ext cx="8636040" cy="339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78040"/>
                    <a:ext cx="8636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A9A-8015-4AB3-978A-E2DD4E666A5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Вторичный рынок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0120" y="1841400"/>
          <a:ext cx="8763120" cy="36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841400"/>
                    <a:ext cx="876312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721-0E8A-40A0-9D43-8624DC8A033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ынок строительства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0120" y="1562040"/>
          <a:ext cx="8508960" cy="367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562040"/>
                    <a:ext cx="85089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DB9-BE85-4769-97E8-ADF1B3492CD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ы между сегментами рынка жилья в условиях дисбаланса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1989000"/>
            <a:ext cx="194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ичный рынок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1989000"/>
            <a:ext cx="180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торичный рынок жи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4221000"/>
            <a:ext cx="2305080" cy="9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1" idx="0"/>
          </p:cNvCxnSpPr>
          <p:nvPr/>
        </p:nvCxnSpPr>
        <p:spPr>
          <a:xfrm flipH="1" rot="16200000">
            <a:off x="2790000" y="2727000"/>
            <a:ext cx="1080000" cy="19090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2"/>
            <a:endCxn id="231" idx="0"/>
          </p:cNvCxnSpPr>
          <p:nvPr/>
        </p:nvCxnSpPr>
        <p:spPr>
          <a:xfrm rot="5400000">
            <a:off x="4734000" y="2691360"/>
            <a:ext cx="1080000" cy="19803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9DB-CF86-4192-86B7-EAC04A13898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а дисбаланса на рынке жилищного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39840"/>
          <a:ext cx="7797600" cy="269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39840"/>
                    <a:ext cx="77976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3789360"/>
          <a:ext cx="7645680" cy="2900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789360"/>
                    <a:ext cx="76456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796-141A-4C00-A038-0175C6B4440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менения реальных цен на жилье, средней стоимости строительства и реальных доходов населения (199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00%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879560"/>
          <a:ext cx="789948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79560"/>
                    <a:ext cx="789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6920" y="62373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EEB-E2F7-413C-97DD-96CF3E6605C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2A5-2B2A-4C6D-935C-69FD0B3D91E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лее медленные по сравнению с базовым сценарием темпы роста реальных располагаемых доходов насе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жилищного строительства, предполагающее сохранение неизменными всех существующих административных барьеров, факторов и ограничений, влияющих на темпы роста объемов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менения на рынках жилья и жилищных кредитов, изменения предпочтительных способов улучшения жилищных условий, развитие банковской системы и увеличение объемов жилищного кредитования происходят по более консервативному пути, более медленными темп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878-6AA1-498E-92AB-ED821944879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ы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3840" y="838080"/>
          <a:ext cx="8140680" cy="490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838080"/>
                    <a:ext cx="81406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5C2-1435-477D-A2CC-9A4127BD1AB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ы жиль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4941720"/>
            <a:ext cx="575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01520" y="1557360"/>
          <a:ext cx="9042480" cy="428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557360"/>
                    <a:ext cx="904248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EE2-56BE-45B9-861F-783052FE4EE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буемые объемы строительства для удовлетворения спроса на жилье и сохранения реальных цен на жилье на уровне 2003 г. (при максимально возможном удовлетворении спроса на жилищные  кред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00000" y="1089000"/>
          <a:ext cx="7266240" cy="5653080"/>
        </p:xfrm>
        <a:graphic>
          <a:graphicData uri="http://schemas.openxmlformats.org/drawingml/2006/table">
            <a:tbl>
              <a:tblPr/>
              <a:tblGrid>
                <a:gridCol w="3702240"/>
                <a:gridCol w="507960"/>
                <a:gridCol w="509400"/>
                <a:gridCol w="509760"/>
                <a:gridCol w="507960"/>
                <a:gridCol w="511200"/>
                <a:gridCol w="507960"/>
                <a:gridCol w="509760"/>
              </a:tblGrid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, млн. кв. м.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жилья, млн. кв.м. общей площ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е возмож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ватка потенциальных возможностей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н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 в городах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099-7B11-4A84-94C1-43679CD34A5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результаты и 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9BC-4A4F-441E-BA54-95FD9277D26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ь населения в улучшении жилищных условий (по результатам опроса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отребность  в жилье - 1 569,8 млн. кв. м (17 767,5 млрд. рублей в ценах 2003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ность в строительстве нового жилья - 1 291 млн. кв. м (14 612,6 млрд. руб.) (не менее 46,1% от существующего жилищного фо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4% всех домохозяйств уже сегодня потенциально могут приобрести жилье за счет собственных или заем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E77-569E-4608-82C7-F4E6F6C7265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и перспектив развития жилищного 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лижайшие  7 лет ожидается рост объемов строительства жилья, но спрос полностью не будет удовлетв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ы ввода увеличатся с 36 млн. кв. м. в 2003 г.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3 млн. кв. м в 2010 г. при сохранении существующих тенденций в развитии жилищного строительства и жилищного кредито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2 млн. кв. м. в 2010 г. при варианте развития строительства в условиях увеличения платежеспособного спроса населения на жилье, снижения административных барьеров и решения других проблем в сфере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инженерно-технической инфраструкту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кредитования застройщ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5D5-F077-4453-BF8F-552ADEDC812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развития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при максимальных планируемых банками объемах жилищного кредитования населения спрос на жилье будет существенно ограничен объемам предложения жилищных кредитов и удовлетворен не более, чем на 39% даже в 201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звитии рынка ипотечных ценных бумаг, спрос на жилищные кредиты может быть полностью удовлетворен начиная с 2007 г. При этом объем жилищного кредитования в 2010 г. составит 521 млрд. руб. (в ценах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и банков по кредитованию застройщиков (131 – 137 млрд. руб. в год) существенно отстают от потребности застройщиков и составляют лишь 12 – 15% требуемых объемов кредит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B96-4C2B-41C3-8732-A1460CF5185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ые результаты прогнозных оценок (на основе моделирования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условии проведения необходимых реформ реализованный спрос на жилье, т.е. спрос, обеспеченный предложением, увеличится с 350 млрд. руб. в 2004 г. до 1,9 трлн. руб. в 2010 г. (в текущих ценах), составив в совокупности за рассматриваемый период 5,8 трлн. руб. (в ценах 2003 г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среднем за период с 2004 по 2010 гг. доля реализованного спроса на жилье составит 58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всех реформ доля домохозяйств, которым будет доступно приобретение стандартной квартиры (54 кв. м.) за счет собственных средств и жилищных кредитов, увеличится от всей совокупности домохозяйств с 9% в 2003 г. до 31% в 2010 г. При инерционном варианте эта доля вырастет до 25%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необходимых реформ возможна стабилизация реальных цен на жилье, начиная с 2007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760-879E-4B82-993B-B7436309572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намика объемов ввода нового жилья и изменения цен на первичном и вторичном рынках жи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7920000" cy="4421160"/>
        </p:xfrm>
        <a:graphic>
          <a:graphicData uri="http://schemas.openxmlformats.org/drawingml/2006/table">
            <a:tbl>
              <a:tblPr/>
              <a:tblGrid>
                <a:gridCol w="2367000"/>
                <a:gridCol w="912600"/>
                <a:gridCol w="546120"/>
                <a:gridCol w="557280"/>
                <a:gridCol w="558720"/>
                <a:gridCol w="557280"/>
                <a:gridCol w="558720"/>
                <a:gridCol w="557280"/>
                <a:gridCol w="619200"/>
                <a:gridCol w="685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ввода нового ж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 в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.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перв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втор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яя стоимость строительства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средней ценой жилья на первичном рынке и средней стоимостью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средней цены жилья на первичном рынке и средней стоимости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11280" y="6308640"/>
            <a:ext cx="56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BC2-BA0F-4448-9599-4D9ED97D4E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домохозяйствами текущего состояния своего жилья (в % от числа домохозяйств, в среднем по всей выбо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635520" cy="489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3500280"/>
            <a:ext cx="201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я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48F-8E00-4D38-A107-95BEF45C59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влетворенность населения жилищными условиями в 2003 г. (в % от домохозяйст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1640"/>
          <a:ext cx="8826480" cy="48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1640"/>
                    <a:ext cx="88264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A8F-5293-4D26-BF08-E4D2C53F2A9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6:45:38Z</dcterms:created>
  <dc:creator>rogozhina</dc:creator>
  <dc:description/>
  <dc:language>en-US</dc:language>
  <cp:lastModifiedBy>Туманов Андрей</cp:lastModifiedBy>
  <dcterms:modified xsi:type="dcterms:W3CDTF">2004-06-03T08:24:35Z</dcterms:modified>
  <cp:revision>99</cp:revision>
  <dc:subject/>
  <dc:title>Слайд 1</dc:title>
</cp:coreProperties>
</file>