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11.wmf" ContentType="image/x-wmf"/>
  <Override PartName="/ppt/media/image3.png" ContentType="image/png"/>
  <Override PartName="/ppt/media/image30.wmf" ContentType="image/x-wmf"/>
  <Override PartName="/ppt/media/image28.wmf" ContentType="image/x-wmf"/>
  <Override PartName="/ppt/media/image31.wmf" ContentType="image/x-wmf"/>
  <Override PartName="/ppt/media/image36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15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630988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7763-4582-457C-838A-5AE2ADE9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926E-5AF6-4670-A25E-50C1BDCB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5F3-98EF-4149-BDC8-8F8E19B8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9C10-DD00-41A4-94B6-854BBB24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8574-F72C-49E5-92A0-E187BCC2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CE84-DF69-4174-8946-FD84D8AF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51C3-2459-4170-8AF2-647CBF30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184-0635-4856-8BB7-49A41D8D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C718-3E6D-46D0-A58D-09E1E850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6DE7-C5E7-4E9C-AB4F-1A77E53C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164-E8DA-4A56-9FFA-B3467220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ACA9-27AC-4F07-92E3-8E417A6E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5071-AE75-45E2-85C9-38BE54211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Cyr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ценка масштабов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и динамики изменения платежеспособного спроса на жилье и объемов жилищного строительства в России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5013000"/>
            <a:ext cx="6400800" cy="685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Cyr"/>
              </a:rPr>
              <a:t>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Cyr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Cyr"/>
              </a:rPr>
              <a:t>Фонд «Институт экономики горо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494172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602136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По заказу ОАО «Банк внешней торговли» (Внешторгбан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6E61-BF96-4058-9BFC-C0538653F35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Жилищные потребности населения в 2003 г. (в % от всех домохозяйст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24000" y="1130400"/>
          <a:ext cx="8424720" cy="2747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30400"/>
                    <a:ext cx="842472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46040" y="3784680"/>
          <a:ext cx="7845480" cy="3060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6040" y="3784680"/>
                    <a:ext cx="784548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F79A-E621-4884-8019-B493FC4AB3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Другие способы улучшения жилищных условий (кроме приобретения и строительства жилья на рынк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4160" y="3854520"/>
          <a:ext cx="11504520" cy="231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3854520"/>
                    <a:ext cx="11504520" cy="23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50920" y="1773360"/>
            <a:ext cx="698508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я домохозяйств, желающих улучшить жилищные условия другими способами, % от всех домохозяй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738920" y="2095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D39C-92C7-494E-9EB4-CF18C29D93E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охозяйства, желающие улучшать жилищные условия другими способами или не видящие возможности улучшать жилищные услов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9280" y="2133720"/>
          <a:ext cx="4537080" cy="324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133720"/>
                    <a:ext cx="453708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356000" y="2629080"/>
          <a:ext cx="4788000" cy="2535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6000" y="2629080"/>
                    <a:ext cx="478800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9863-AEA2-4D88-B123-5B5C758FF16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ность и спрос населения на жилье и жилищные кредиты по условиям 2003 г.  (в ценах 2003 г.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74760" y="1555920"/>
          <a:ext cx="8373960" cy="3859200"/>
        </p:xfrm>
        <a:graphic>
          <a:graphicData uri="http://schemas.openxmlformats.org/drawingml/2006/table">
            <a:tbl>
              <a:tblPr/>
              <a:tblGrid>
                <a:gridCol w="2114280"/>
                <a:gridCol w="693720"/>
                <a:gridCol w="698760"/>
                <a:gridCol w="695160"/>
                <a:gridCol w="695520"/>
                <a:gridCol w="695160"/>
                <a:gridCol w="695520"/>
                <a:gridCol w="695160"/>
                <a:gridCol w="695520"/>
                <a:gridCol w="695160"/>
              </a:tblGrid>
              <a:tr h="31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отребность в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67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н. кв. 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9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потребность в жилье д/х, готовых улучшить жилищные условия рыночными способ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3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н. кв. 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7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8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н. кв. 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 т.ч.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9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539640" y="6165720"/>
            <a:ext cx="705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Оценки построены на основе данных опроса населения с учетом условий приобретения жилья по ценам 2003 г. Показатели не учитывают возможные ограничения по кредитованию населения и предложения жил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FB9E-AF2B-47EB-BC95-CB035FB9A7D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домохозяйств в зависимости от предпочитаемой финансовой схемы приобретения жилья в 2004 г. (в % от домохозяйств)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00000" y="693720"/>
          <a:ext cx="7345440" cy="5256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693720"/>
                    <a:ext cx="73454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754200" y="6062760"/>
            <a:ext cx="648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Среди всех респондентов, принявших участие в опросе, проведенного Центром Исследований РАМ в декабре 2003 - январе 2004 г., было отобрано 17,1% респондентов в возрасте от 21 до 50 лет и с совокупными доходами домохозяйства от 6 тыс. руб. в мес. (для Москвы – от 15 тыс. руб. в месяц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0A95-711C-4D7C-91EF-823C02B03A6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прос на жилье в 2004 г. в зависимости от типа приобретаемого жилья, в млрд. руб. (в ценах 2003г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1846440"/>
            <a:ext cx="7624440" cy="3801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9640" y="5877000"/>
            <a:ext cx="561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опроса без учета домохозяйств, не определившихся со временем улучшения жилищных усло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D285-8FC9-46CC-8AE2-46D8C94ACD7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отказа от использования банковских кредитов при покупке жилья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11280" y="1522440"/>
            <a:ext cx="7561080" cy="471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5792-5EA1-4398-A3DE-C2DAB9ED2A1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ценка возможностей развития жилищного строительства и жилищного кредит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ED14-8AFE-469A-BA1A-D30A2922B97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1947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ы объемов жилищного строительства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по оценке субъектов Российской Федер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308640"/>
            <a:ext cx="7056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По экспертной оценке ИЭ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 Оценки построены на основе данных опроса населения и не включают социальное жил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9280" y="907920"/>
          <a:ext cx="8785440" cy="5256360"/>
        </p:xfrm>
        <a:graphic>
          <a:graphicData uri="http://schemas.openxmlformats.org/drawingml/2006/table">
            <a:tbl>
              <a:tblPr/>
              <a:tblGrid>
                <a:gridCol w="309600"/>
                <a:gridCol w="1020960"/>
                <a:gridCol w="2630520"/>
                <a:gridCol w="576000"/>
                <a:gridCol w="536760"/>
                <a:gridCol w="615960"/>
                <a:gridCol w="614160"/>
                <a:gridCol w="617760"/>
                <a:gridCol w="614160"/>
                <a:gridCol w="615960"/>
                <a:gridCol w="63360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ы про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ак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ы строительства жилья в России по оценкам субъектов Российской федерации при сохранении существующей ситуации в сфере жилищного строительства, млн. кв.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объемы строительства социального жилья, млн. кв. м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предыдущему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ы строительства жилья в России по оценкам субъектов Российской федерации при условии увеличения платежеспособного спроса населения на жилье, млн. кв. 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объемы строительства социального жилья, млн. кв. м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предыдущему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 по условиям 2003 г.(в ценах 2003г.)**, млн. кв.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удовлетворения спроса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первом варианте прогнозов увеличения объемов жилищного строитель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тором варианте прогнозов увеличения объемов жилищного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69696"/>
                          </a:solidFill>
                          <a:latin typeface="Times New Roman"/>
                          <a:ea typeface="Times New Roman"/>
                        </a:rPr>
                        <a:t>10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1F86-D0EC-4B2A-905D-CB8DAFFE4A7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гноз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бъектов Российской Федерации и муниципальных образовани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о структуре источников финансирования жилищного строительства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25480" y="1415880"/>
          <a:ext cx="7264440" cy="5396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480" y="1415880"/>
                    <a:ext cx="7264440" cy="53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04BD-7438-48ED-84E9-D38FFC4D651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щая характеристика рынка жилья, потребности населения в улучшении жилищных условий и платежеспособного спроса на жилье и жилищные креди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26A4-908E-4653-96FF-507E3851908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ценка обеспеченности планируемых объемов строительства жилья при сохранении существующей ситуации в сфере жилищного строительства прогнозируемыми объемами производства основных видов строительных материалов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9280" y="1197000"/>
          <a:ext cx="8713800" cy="4910040"/>
        </p:xfrm>
        <a:graphic>
          <a:graphicData uri="http://schemas.openxmlformats.org/drawingml/2006/table">
            <a:tbl>
              <a:tblPr/>
              <a:tblGrid>
                <a:gridCol w="601920"/>
                <a:gridCol w="2422440"/>
                <a:gridCol w="792000"/>
                <a:gridCol w="1081080"/>
                <a:gridCol w="1224000"/>
                <a:gridCol w="1440000"/>
                <a:gridCol w="115236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увеличения объемов ввода жилья при сохранении существующей ситуации в сфере жилищного строительства, тыс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возможно будет реализовать за счет планируемого увеличения объемов производства основных видов строительных материалов, тыс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нов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ный железо-бе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изоляцион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ель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ак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5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3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7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5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3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7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7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6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7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2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8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4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6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8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5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0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 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9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5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8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0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7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5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 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станет возможен при использовании всех потенциальных возможностей существующих производственных мощностей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данным Госкомстата России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9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7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5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 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395280" y="6381720"/>
            <a:ext cx="57168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6172200"/>
            <a:ext cx="619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ехватка планируемого производства строительного материала для обеспечения прогнозируемого увеличения объемов строительства жилья при сохранении существующей ситуации в сфере жилищного стро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63BE-E1B0-4471-98AD-AF786C875D3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79280" y="1197000"/>
          <a:ext cx="8785440" cy="4910040"/>
        </p:xfrm>
        <a:graphic>
          <a:graphicData uri="http://schemas.openxmlformats.org/drawingml/2006/table">
            <a:tbl>
              <a:tblPr/>
              <a:tblGrid>
                <a:gridCol w="606600"/>
                <a:gridCol w="2346120"/>
                <a:gridCol w="792360"/>
                <a:gridCol w="1027080"/>
                <a:gridCol w="1287360"/>
                <a:gridCol w="1513080"/>
                <a:gridCol w="121284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увеличения объемов строительства жилья при условии увеличения платежеспособного спроса населения на жильё, тыс. м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возможно будет реализовать за счет планируемого увеличения объемов производства основных видов строительных материалов, тыс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нов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ный железо-бе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изоляцион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ель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ак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5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3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7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2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5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3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7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4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6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7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2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8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8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4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6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8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5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2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0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7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9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5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 3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8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0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 4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7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5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 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1189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станет возможен при использовании всех потенциальных возможностей существующих производственных мощностей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данным Госкомстата России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9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7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5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 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79280" y="6381720"/>
            <a:ext cx="57168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6172200"/>
            <a:ext cx="712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ехватка планируемого производства строительного материала для обеспечения прогнозируемого увеличения объемов строительства жилья при условии увеличения платежеспособного спроса населения на жиль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ценка обеспеченности планируемых объемов строительства жилья при условии увеличения платежеспособного спроса населения на жилье прогнозируемыми объемами производства основных видов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оительных 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1D2C-B88D-4EB3-A30F-CB99DEC64ED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отношение прогнозируемых объемов ввода жилья в России и возможностей инженерно-технической инфраструктуры в городах по обеспечению жилищного строи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052640"/>
          <a:ext cx="8713800" cy="4557600"/>
        </p:xfrm>
        <a:graphic>
          <a:graphicData uri="http://schemas.openxmlformats.org/drawingml/2006/table">
            <a:tbl>
              <a:tblPr/>
              <a:tblGrid>
                <a:gridCol w="504720"/>
                <a:gridCol w="1584360"/>
                <a:gridCol w="1295280"/>
                <a:gridCol w="1944720"/>
                <a:gridCol w="1513080"/>
                <a:gridCol w="1871640"/>
              </a:tblGrid>
              <a:tr h="283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можности сетей и мощностей инженерно-технической инфраструктуры в городах (с учетом планируемого развития) по обеспечению жилищного строительства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нозируемые объемы ввода жилья в России при сохранении существующей ситуации в сфере жилищного строительства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ица между возможностями инженерно-технической инфраструктуры по обеспечению нового строительства и прогнозируемыми объемами ввода жилья при сохранении существующей ситуации в сфере жилищного строительства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нозируемые максимально возможные объемы строительства жилья в России при условии   увеличения платежеспособного спроса населения на жилье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ица между возможностями инженерно-технической инфраструктуры по обеспечению нового строительства и прогнозируемыми объемами ввода жилья при условии   увеличения платежеспособного спроса населения на жилье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8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 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2 4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 5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7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1 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 4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6 9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 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 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5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7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4 2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 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 3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5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 2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6 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 3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6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6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 7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11 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 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0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 2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15 0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 8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 0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7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 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16 6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ACAF-391D-4E8B-9654-1D4A84C3AA2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рганизационные условия и административные барьеры в жилищном строительстве на этапе предоставления земельных участков и разрешений на строительство многоквартирных жилых дом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фрагмент результатов опроса представителей исполнительной власти муниципальных образов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9280" y="1484280"/>
          <a:ext cx="8785440" cy="4697280"/>
        </p:xfrm>
        <a:graphic>
          <a:graphicData uri="http://schemas.openxmlformats.org/drawingml/2006/table">
            <a:tbl>
              <a:tblPr/>
              <a:tblGrid>
                <a:gridCol w="4284720"/>
                <a:gridCol w="619200"/>
                <a:gridCol w="884160"/>
                <a:gridCol w="781200"/>
                <a:gridCol w="804600"/>
                <a:gridCol w="744840"/>
                <a:gridCol w="666720"/>
              </a:tblGrid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. изме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ее знач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больший из отве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ьший из отве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подготовительного периода для жилищного строительства (с момента подачи заявки до момента принятия административного акта о предоставлении разрешения на строительств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рослав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ран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организаций, участвующих в согласованиях, экспертизе проектной документации, предоставлении разрешения на 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ладими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ороссий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подписей, которые необходимо получить на стадии согласования и экспертизы проектной документации, получения разрешения на 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ладими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ороссий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та за предоставление земельного участ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нежная форма оплаты (доля от стоимости строительства жилого объек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но-Алтай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баров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туральная форма оплаты (доля от количества квартир в объект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ян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м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реализации проектов жилищного строительства с момента принятия административного акта о разрешении на строительство до момента приемки объекта в 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баров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льянов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56B-7E96-4EB0-B1A7-4C710E9F291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9280" y="1341360"/>
          <a:ext cx="8785440" cy="5132520"/>
        </p:xfrm>
        <a:graphic>
          <a:graphicData uri="http://schemas.openxmlformats.org/drawingml/2006/table">
            <a:tbl>
              <a:tblPr/>
              <a:tblGrid>
                <a:gridCol w="4851360"/>
                <a:gridCol w="847800"/>
                <a:gridCol w="925560"/>
                <a:gridCol w="1081080"/>
                <a:gridCol w="107964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. изме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ее зна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больший из отв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ьший из отв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подготовительного периода для жилищного строительства (с момента подачи заявки до момента принятия административного акта о предоставлении разрешения на строительство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организаций участвующих в согласованиях, экспертизе проектной документации, предоставлении разрешения на строитель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подписей, которые необходимо получить на стадии согласования и экспертизы проектной документации, получения разрешения на строитель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,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та за предоставление земельного участк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нежная форма оплаты (доля от стоимости строительства жилого объек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,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туральная форма оплаты (доля от количества квартир в объект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реализации проектов жилищного строительства с момента принятия административного акта о разрешении на строительство до момента приемки объекта в эксплуатац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0" y="589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рганизационные условия и административные барьеры в жилищном строительстве на этапе предоставления земельных участков и разрешений на строительство многоквартирных жилых дом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фрагмент результатов опроса представителей крупнейших строительных комп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9BF8-6473-4500-9CEE-0C87FEA28A0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тистика ответов представителей 45 крупнейших строительных компаний на вопрос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Что, по Вашему мнению, необходимо сделать для совершенствования процедур предоставления земельных участков, предоставления разрешений на строительство  и т.д. (распределите позиции по приоритетности, считая, что 6 обозначает наивысший приоритет, 5 – следующий по значению и т.д.)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557840" cy="50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1E56-F0D3-4CEA-84B3-EB4FC44D92B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атистика ответов представителей 45 крупнейших строительных компаний на вопрос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«Какие, на Ваш взгляд, существуют основные препятствия для увеличения Вашей компанией объемов строительства жилья (распределите нижеследующие позиции по приоритетности, считая, что 9 обозначает наивысший приоритет, 8 – следующий по значению и т.д.)»</a:t>
            </a:r>
            <a:br>
              <a:rPr sz="1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7989840" cy="49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F4DF-D7AE-44FD-8FC7-6DF43EB4170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уктура финансирования проектов жилищного строительства на разных этапах их реализаци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по данным опроса 45 крупнейших строительных комп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1413000"/>
          <a:ext cx="7921440" cy="451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413000"/>
                    <a:ext cx="792144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9373-9EFB-4556-8BA2-A71F5816E31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яя стоимость долевого участия в проектах жилищного строительства на различных этапах реализации проектов  в % от цены продажи 1 кв.м. жилья на этапе завершения строительства (до приемки здания в эксплуатацию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по данным опроса 45 крупнейших строительных комп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46120" y="1562040"/>
          <a:ext cx="7770960" cy="5283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6120" y="1562040"/>
                    <a:ext cx="777096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91B-0A9C-489D-9C41-5608AAEACD7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яя структура расходов компании при реализации проекта жилищного строительств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по данным опроса 45 крупнейших строительных компаний)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44440" y="1270080"/>
          <a:ext cx="7043760" cy="448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440" y="1270080"/>
                    <a:ext cx="70437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68360" y="5950080"/>
            <a:ext cx="719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В среднем по оценке строительных компаний 13 % от построенного объема квартир передается муниципалитетам в качестве оплаты предоставления земельного участка, 9% - на подключение к инженерным сетям и 4,5% - на иные рас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70D7-3846-4796-BD8C-23629310C99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менение коэффициента доступности жилья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1484280"/>
          <a:ext cx="8135640" cy="4681440"/>
        </p:xfrm>
        <a:graphic>
          <a:graphicData uri="http://schemas.openxmlformats.org/drawingml/2006/table">
            <a:tbl>
              <a:tblPr/>
              <a:tblGrid>
                <a:gridCol w="2376360"/>
                <a:gridCol w="1150920"/>
                <a:gridCol w="576360"/>
                <a:gridCol w="576000"/>
                <a:gridCol w="573120"/>
                <a:gridCol w="546120"/>
                <a:gridCol w="533520"/>
                <a:gridCol w="534960"/>
                <a:gridCol w="614520"/>
                <a:gridCol w="653760"/>
              </a:tblGrid>
              <a:tr h="8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ы измерения (до 1998 г. - тыс. руб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реднедушевые денежн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руб.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8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6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редняя цена на рынке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8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5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9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7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3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19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59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оотношение средней цены стандартной квартиры (54 кв.м.) и среднего годового дохода домохозяйства (3 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оотношение среднего годового дохода домохозяйства (3 человека) и средней цены 1 кв. ме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кв. метры /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539640" y="6249960"/>
            <a:ext cx="56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Госкомстата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4F9-7FC7-4682-98D3-D8AFB544EA3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инамика изменения предложения жилищных кредитов населению 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9280" y="1700280"/>
          <a:ext cx="8498160" cy="4672080"/>
        </p:xfrm>
        <a:graphic>
          <a:graphicData uri="http://schemas.openxmlformats.org/drawingml/2006/table">
            <a:tbl>
              <a:tblPr/>
              <a:tblGrid>
                <a:gridCol w="3745080"/>
                <a:gridCol w="790560"/>
                <a:gridCol w="631800"/>
                <a:gridCol w="534960"/>
                <a:gridCol w="536760"/>
                <a:gridCol w="536400"/>
                <a:gridCol w="534960"/>
                <a:gridCol w="536760"/>
                <a:gridCol w="650880"/>
              </a:tblGrid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ое банками предложение жилищных кредитов (на основе опросов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объемы предложения банками жилищных кредитов с учетом нормативов регулирования и прогнозов развития банковской системы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яя гра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яя гра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объемы жилищных кредитов при эмиссии ипотечных ценных бумаг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чет эмиссии ипотечных ценных бумаг банками (на основе оценок экспертов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иссии ипотечных ценных бумаг АИЖК (на основе оценки АИЖК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е объемы инвестирования в ипотечные ценные бумаги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04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селения на жилищные кредиты (по данным опроса населения и по условиям 2003 г.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9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762F-E84F-46FE-AC83-862AF33731D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анируемые объемы инвестировани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ипотечные ценные бумаги в текущих ценах (млрд. руб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4000" y="1917720"/>
            <a:ext cx="8569080" cy="38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6313-83C1-4D1B-BBDE-38E6F051B20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инамика предложения банками кредитов застройщикам жилья, в текущих ценах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по результатам анкетного опроса банков)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2031840"/>
          <a:ext cx="8229600" cy="3176640"/>
        </p:xfrm>
        <a:graphic>
          <a:graphicData uri="http://schemas.openxmlformats.org/drawingml/2006/table">
            <a:tbl>
              <a:tblPr/>
              <a:tblGrid>
                <a:gridCol w="2932200"/>
                <a:gridCol w="757080"/>
                <a:gridCol w="758880"/>
                <a:gridCol w="754200"/>
                <a:gridCol w="755640"/>
                <a:gridCol w="758880"/>
                <a:gridCol w="755640"/>
                <a:gridCol w="75708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планируемый объем кредитов застройщикам , млрд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й планируемый объем кредитов застройщикам , млрд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кредиты со стороны застройщиков (по данным опроса регион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0A01-6EC6-4A93-92EA-9B51A9732D2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2494080"/>
            <a:ext cx="8496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новные результа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нозных оцено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основе модели спроса и предложения на рынке жиль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879D-AAAE-438B-8D46-AE9FF9FDDBA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кроэкономические показатели, используемые в прогнозных оцен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1600200"/>
          <a:ext cx="8002440" cy="4286160"/>
        </p:xfrm>
        <a:graphic>
          <a:graphicData uri="http://schemas.openxmlformats.org/drawingml/2006/table">
            <a:tbl>
              <a:tblPr/>
              <a:tblGrid>
                <a:gridCol w="2581200"/>
                <a:gridCol w="604800"/>
                <a:gridCol w="600120"/>
                <a:gridCol w="608040"/>
                <a:gridCol w="600120"/>
                <a:gridCol w="601560"/>
                <a:gridCol w="601920"/>
                <a:gridCol w="603000"/>
                <a:gridCol w="600120"/>
                <a:gridCol w="601560"/>
              </a:tblGrid>
              <a:tr h="52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азовый сцена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декс потребительских цен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ьные располагаемые доходы населения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ссимистический сцена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декс потребительских цен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ьные располагаемые доходы населения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FED9-5446-4C9E-8FF2-88792293D34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азовый сцена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148D-9ADE-4986-8C91-8DFBC259F72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рианты прогнозируемых объемов жилищного строительства (базовый сценар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55640" y="1628640"/>
          <a:ext cx="7920000" cy="4481640"/>
        </p:xfrm>
        <a:graphic>
          <a:graphicData uri="http://schemas.openxmlformats.org/drawingml/2006/table">
            <a:tbl>
              <a:tblPr/>
              <a:tblGrid>
                <a:gridCol w="1008000"/>
                <a:gridCol w="3382920"/>
                <a:gridCol w="503280"/>
                <a:gridCol w="504720"/>
                <a:gridCol w="505080"/>
                <a:gridCol w="503280"/>
                <a:gridCol w="504720"/>
                <a:gridCol w="503280"/>
                <a:gridCol w="504720"/>
              </a:tblGrid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ервый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строительства жилья в России, млн. кв.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% к предыдущему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Второй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строительства жилья в России при условии увеличения платежеспособного спроса населения и  сокращения административных ограничений и решения проблем, тормозящих развитие строительства, млн. кв. 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% к предыдущему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96F-03F1-41FD-B3DB-A30C4F76050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рианты возможных объемов предложения банками жилищных кредитов населению (базовый сценарий) 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2041560"/>
          <a:ext cx="8229600" cy="3403440"/>
        </p:xfrm>
        <a:graphic>
          <a:graphicData uri="http://schemas.openxmlformats.org/drawingml/2006/table">
            <a:tbl>
              <a:tblPr/>
              <a:tblGrid>
                <a:gridCol w="2409840"/>
                <a:gridCol w="819000"/>
                <a:gridCol w="819360"/>
                <a:gridCol w="820800"/>
                <a:gridCol w="819000"/>
                <a:gridCol w="820800"/>
                <a:gridCol w="820800"/>
                <a:gridCol w="900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ервый вариант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аксимальное планируемое банками предложение жилищных кредитов (на основе опросов), млрд. руб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торой вариант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е объемы жилищных кредитов при эмиссии ипотечных ценных бумаг, млрд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9ADB-A1E0-4374-A6D6-D7C3D1450A2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рианты базового сцен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1773360"/>
          <a:ext cx="7772400" cy="4322520"/>
        </p:xfrm>
        <a:graphic>
          <a:graphicData uri="http://schemas.openxmlformats.org/drawingml/2006/table">
            <a:tbl>
              <a:tblPr/>
              <a:tblGrid>
                <a:gridCol w="1509840"/>
                <a:gridCol w="1224000"/>
                <a:gridCol w="2379600"/>
                <a:gridCol w="2658960"/>
              </a:tblGrid>
              <a:tr h="5169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жилищного строитель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1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2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жилищного кредит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Инерционный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Увеличение строитель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Развитие рынка жилищных креди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Проведение всех рефор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105E-0419-45EE-A562-217B7AEA0F2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23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ерционный вариан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920" y="836640"/>
          <a:ext cx="8794800" cy="5262480"/>
        </p:xfrm>
        <a:graphic>
          <a:graphicData uri="http://schemas.openxmlformats.org/drawingml/2006/table">
            <a:tbl>
              <a:tblPr/>
              <a:tblGrid>
                <a:gridCol w="3322440"/>
                <a:gridCol w="1063800"/>
                <a:gridCol w="601560"/>
                <a:gridCol w="588960"/>
                <a:gridCol w="630360"/>
                <a:gridCol w="642960"/>
                <a:gridCol w="644400"/>
                <a:gridCol w="642960"/>
                <a:gridCol w="65736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0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5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2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4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DDDC-409B-4F42-88B9-04B7F13EFFE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эффициенты доступности жилья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904000"/>
            <a:ext cx="6624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Рассчитано по данным Госкомстата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и медианных показателей и среднедушевых доходов населения без верхнего децил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читаны с использованием методики ИЭ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1197000"/>
          <a:ext cx="8272440" cy="4572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197000"/>
                    <a:ext cx="82724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5B94-0AD8-4D24-8670-59A2FEF052F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дение всех реформ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9280" y="981000"/>
          <a:ext cx="8785440" cy="5016600"/>
        </p:xfrm>
        <a:graphic>
          <a:graphicData uri="http://schemas.openxmlformats.org/drawingml/2006/table">
            <a:tbl>
              <a:tblPr/>
              <a:tblGrid>
                <a:gridCol w="3311640"/>
                <a:gridCol w="1065240"/>
                <a:gridCol w="601560"/>
                <a:gridCol w="588960"/>
                <a:gridCol w="630360"/>
                <a:gridCol w="642960"/>
                <a:gridCol w="644400"/>
                <a:gridCol w="642960"/>
                <a:gridCol w="6573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.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.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.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.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7D43-EFAA-44E2-A73D-8A9B9FA2066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формирование строительств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79280" y="907920"/>
          <a:ext cx="8785440" cy="5024520"/>
        </p:xfrm>
        <a:graphic>
          <a:graphicData uri="http://schemas.openxmlformats.org/drawingml/2006/table">
            <a:tbl>
              <a:tblPr/>
              <a:tblGrid>
                <a:gridCol w="3311640"/>
                <a:gridCol w="1065240"/>
                <a:gridCol w="601560"/>
                <a:gridCol w="588960"/>
                <a:gridCol w="630360"/>
                <a:gridCol w="642960"/>
                <a:gridCol w="644400"/>
                <a:gridCol w="642960"/>
                <a:gridCol w="6573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.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.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0312-9E82-4D24-BDF0-B7CC012F576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е рынка жилищных кредитов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8000" y="836640"/>
          <a:ext cx="9001080" cy="5235480"/>
        </p:xfrm>
        <a:graphic>
          <a:graphicData uri="http://schemas.openxmlformats.org/drawingml/2006/table">
            <a:tbl>
              <a:tblPr/>
              <a:tblGrid>
                <a:gridCol w="3241800"/>
                <a:gridCol w="1217520"/>
                <a:gridCol w="635040"/>
                <a:gridCol w="620640"/>
                <a:gridCol w="665280"/>
                <a:gridCol w="679320"/>
                <a:gridCol w="681120"/>
                <a:gridCol w="677880"/>
                <a:gridCol w="58248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.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.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2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.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.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5.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8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4.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5.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8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4.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5.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7669-1212-4C50-8D83-D52A27F6AF5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ъем рынка жилья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206360"/>
          <a:ext cx="8893080" cy="4378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06360"/>
                    <a:ext cx="889308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395280" y="59500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з учета инвестиционного спроса на жилье, спроса «внешних мигрантов», а также социального жилья и жилья, предоставленного за счет бюджетных субсид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CD10-07ED-4893-A4B5-B8C345D1F46F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менение средней рыночной реальной цены жиль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003 г. = 10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95280" y="1700280"/>
          <a:ext cx="8470800" cy="3954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700280"/>
                    <a:ext cx="8470800" cy="39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116000" y="4797360"/>
            <a:ext cx="5327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D36A-7B06-49E5-8AB0-BA21A22B4680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эффициент доступности приобретения жиль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93840" y="1422360"/>
          <a:ext cx="8470800" cy="433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3840" y="1422360"/>
                    <a:ext cx="847080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755640" y="624996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Рассчитан по средним ценам на жилье и доходам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6F4-5BE1-42A8-B1BE-8B8EFDB80686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ля домохозяйств, улучшивших жилищные условия (% от домохозяйств, имеющих потребность в данном го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30120" y="1628640"/>
          <a:ext cx="8813880" cy="433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628640"/>
                    <a:ext cx="881388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468360" y="645336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Экспертная оценка на основе данных Госкомстата и опроса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7108-2E72-45DE-90EA-C9ED6B3785D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ля домохозяйств, улучшившая жилищные условия (% от домохозяйств, имеющих потребность в приобретении (строительстве) жилья в данном го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6453360"/>
            <a:ext cx="669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Экспертная оценка на основе данных Госкомстата и опроса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79280" y="1409760"/>
          <a:ext cx="8964720" cy="4852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409760"/>
                    <a:ext cx="8964720" cy="48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1115-8E17-4F22-B1EE-29B9AEB2FD28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е минимальных реальных доходов, необходимых для приобретения стандартной квартиры с помощью креди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003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0%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30120" y="1739880"/>
          <a:ext cx="8445600" cy="3924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739880"/>
                    <a:ext cx="844560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95280" y="582624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В предположении, что семья из 3 человек приобретает стандартную квартиру площадью 54 кв. м. с привлечением кредитных средств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текущих условиях кредит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87280" y="4149720"/>
            <a:ext cx="4464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BF2-0FD7-49BD-B638-2843E9B7799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нимальные реальные доходы, необходимые для приобретения стандартной квартиры с помощью кредита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95200" y="1523880"/>
          <a:ext cx="8813880" cy="433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5200" y="1523880"/>
                    <a:ext cx="881388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395280" y="582624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В предположении, что семья из 3 человек приобретает стандартную квартиру площадью 54 кв. м. с привлечением кредитных средств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текущих условиях кредит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595D-7302-453E-BCA4-06A9B9DA3DB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эффициент доступности жилья в регионах Росси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квартал 2003 го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1890720"/>
          <a:ext cx="6264360" cy="432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890720"/>
                    <a:ext cx="626436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361200" y="2997360"/>
          <a:ext cx="2782800" cy="172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61200" y="2997360"/>
                    <a:ext cx="27828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468360" y="6467400"/>
            <a:ext cx="63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эффициент рассчитан по средним показателям по о данным Госкомстата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621-8B3F-4A7F-B60D-901A364728BA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ля населения, которая имеет доходы, достаточные дл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обретения стандартной квартиры с помощью кредита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566100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В предположении, что семья из 3 человек приобретает стандартную квартиру площадью 54 кв. м. с привлечением кредитных средств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текущих условиях кредитования. Предполагается неизменная дифференциация населения по дох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9600" y="1574640"/>
          <a:ext cx="9039240" cy="3746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1574640"/>
                    <a:ext cx="903924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552B-8F28-421E-B37A-66B26DBBC467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ализованный спрос на жилье (% от спроса на жилье)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54160" y="1627200"/>
          <a:ext cx="8928000" cy="4541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1627200"/>
                    <a:ext cx="892800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324000" y="6237360"/>
            <a:ext cx="69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Показатель рассчитывается как отношение реализованного спроса на жилье (руб.) к  спросу на жилье (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B1E1-7D68-47CE-9F8D-B493D423EA27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еспеченность жильем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кв. метров на челове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-146160" y="1413000"/>
          <a:ext cx="9290160" cy="424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46160" y="1413000"/>
                    <a:ext cx="929016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250920" y="5773680"/>
            <a:ext cx="72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Рассчитано по данным Госкомстата России с учетом итогов переписи населения 2003 г. в предположении выбытия жилищного фонда в 1% в год и постоянной численности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8B87-223D-442C-97FD-6CA5F02D349A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Реализованный спрос на кредиты (% от спроса на кредиты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0" y="1717560"/>
          <a:ext cx="9144000" cy="3970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17560"/>
                    <a:ext cx="914400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D84-1A7F-4CDC-8BC8-69322B1CA973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арактеристика дисбаланса на рынках жил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BEAC-F246-4B07-AFAE-0B0EA9324738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Первичный рынок жиль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30120" y="1778040"/>
          <a:ext cx="8636040" cy="3390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778040"/>
                    <a:ext cx="863604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E992-4D2D-47C5-B25D-4624195ADE22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Вторичный рынок жиль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30120" y="1841400"/>
          <a:ext cx="8763120" cy="367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841400"/>
                    <a:ext cx="876312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93E8-1054-41D8-92B6-03178F4E8DAD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Рынок строительства жиль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30120" y="1562040"/>
          <a:ext cx="8508960" cy="3670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562040"/>
                    <a:ext cx="850896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CBCF-7B2E-41D0-B153-FCFDF0D8D56F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еходы между сегментами рынка жилья в условиях дисбаланса спроса и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03280" y="1989000"/>
            <a:ext cx="1944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ичный рынок жи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64000" y="1989000"/>
            <a:ext cx="180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торичный рынок жил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4221000"/>
            <a:ext cx="2305080" cy="9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"/>
          <p:cNvCxnSpPr>
            <a:stCxn id="229" idx="2"/>
            <a:endCxn id="231" idx="0"/>
          </p:cNvCxnSpPr>
          <p:nvPr/>
        </p:nvCxnSpPr>
        <p:spPr>
          <a:xfrm flipH="1" rot="16200000">
            <a:off x="2790000" y="2727000"/>
            <a:ext cx="1080000" cy="19090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30" idx="2"/>
            <a:endCxn id="231" idx="0"/>
          </p:cNvCxnSpPr>
          <p:nvPr/>
        </p:nvCxnSpPr>
        <p:spPr>
          <a:xfrm rot="5400000">
            <a:off x="4734000" y="2691360"/>
            <a:ext cx="1080000" cy="198036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BCED-B4CE-41AA-AE1F-1C1D897F433C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арактеристика дисбаланса на рынке жилищного строительств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68360" y="1239840"/>
          <a:ext cx="7797600" cy="269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39840"/>
                    <a:ext cx="779760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9640" y="3789360"/>
          <a:ext cx="7645680" cy="2900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3789360"/>
                    <a:ext cx="7645680" cy="29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1FB2-A9A0-445F-87A1-E176CBCE5805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намика изменения реальных цен на жилье, средней стоимости строительства и реальных доходов населения (1996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00%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879560"/>
          <a:ext cx="7899480" cy="426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79560"/>
                    <a:ext cx="789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26920" y="6237360"/>
            <a:ext cx="56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Госкомстата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FA69-B6ED-48AD-8339-33F35798A149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ессимистический сцена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5DB-382C-4DBC-A1C3-F011DB56EE15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ссимистический сцен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олее медленные по сравнению с базовым сценарием темпы роста реальных располагаемых доходов насел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витие жилищного строительства, предполагающее сохранение неизменными всех существующих административных барьеров, факторов и ограничений, влияющих на темпы роста объемов жилищного строительст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зменения на рынках жилья и жилищных кредитов, изменения предпочтительных способов улучшения жилищных условий, развитие банковской системы и увеличение объемов жилищного кредитования происходят по более консервативному пути, более медленными темпа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03EA-EB20-433A-AD0D-E3A4336F5EA5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ъемы рынка жилья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93840" y="838080"/>
          <a:ext cx="8140680" cy="4902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3840" y="838080"/>
                    <a:ext cx="8140680" cy="49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395280" y="59500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з учета инвестиционного спроса на жилье, спроса «внешних мигрантов», а также социального жилья и жилья, предоставленного за счет бюджетных субсид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1CC8-8E17-4C0C-A2F5-F087AC546C93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средней рыночной реально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ны жиль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2003 г. = 10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00000" y="4941720"/>
            <a:ext cx="5759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01520" y="1557360"/>
          <a:ext cx="9042480" cy="4280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20" y="1557360"/>
                    <a:ext cx="904248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E9F4-C7D2-4CF7-9E6B-3759C6586326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280" y="-1004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ребуемые объемы строительства для удовлетворения спроса на жилье и сохранения реальных цен на жилье на уровне 2003 г. (при максимально возможном удовлетворении спроса на жилищные  креди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900000" y="1089000"/>
          <a:ext cx="7266240" cy="5653080"/>
        </p:xfrm>
        <a:graphic>
          <a:graphicData uri="http://schemas.openxmlformats.org/drawingml/2006/table">
            <a:tbl>
              <a:tblPr/>
              <a:tblGrid>
                <a:gridCol w="3702240"/>
                <a:gridCol w="507960"/>
                <a:gridCol w="509400"/>
                <a:gridCol w="509760"/>
                <a:gridCol w="507960"/>
                <a:gridCol w="511200"/>
                <a:gridCol w="507960"/>
                <a:gridCol w="509760"/>
              </a:tblGrid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, млн. кв. м.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кредиты, млрд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ельство жилья, млн. кв.м. общей площа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ые возможно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 по предложению жилищных кредитов населению, млрд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ской сферы по предоставлению кредитов застройщикам, млрд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устрии строительных материалов, 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щностей и сетей инженерной инфраструктуры,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ватка потенциальных возможностей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 по предложению жилищных кредитов населению, млн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ской сферы по предоставлению кредитов застройщикам, млрд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устрии строительных материалов, 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щностей и сетей инженерной инфраструктуры в городах,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52C7-C260-4D81-B537-DEA14677AF76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24000" y="2494080"/>
            <a:ext cx="8496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результаты и 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E56B-C487-4E9F-A823-41282656037C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требность населения в улучшении жилищных условий (по результатам опроса насел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817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ая потребность  в жилье - 1 569,8 млн. кв. м (17 767,5 млрд. рублей в ценах 2003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требность в строительстве нового жилья - 1 291 млн. кв. м (14 612,6 млрд. руб.) (не менее 46,1% от существующего жилищного фон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,4% всех домохозяйств уже сегодня потенциально могут приобрести жилье за счет собственных или заемных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4F8C-A387-4D75-BECA-E9035BE7A88E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ценка возможностей и перспектив развития жилищного строитель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ближайшие  7 лет ожидается рост объемов строительства жилья, но спрос полностью не будет удовлетвор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мы ввода увеличатся с 36 млн. кв. м. в 2003 г. д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53 млн. кв. м в 2010 г. при сохранении существующих тенденций в развитии жилищного строительства и жилищного кредитован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72 млн. кв. м. в 2010 г. при варианте развития строительства в условиях увеличения платежеспособного спроса населения на жилье, снижения административных барьеров и решения других проблем в сфере жилищного строительст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Ограничения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витие инженерно-технической инфраструктур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витие кредитования застройщ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A892-8EC5-4102-9C73-D6F46980E6FF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ценка возможностей развития жилищного кредит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же при максимальных планируемых банками объемах жилищного кредитования населения спрос на жилье будет существенно ограничен объемам предложения жилищных кредитов и удовлетворен не более, чем на 39% даже в 2010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развитии рынка ипотечных ценных бумаг, спрос на жилищные кредиты может быть полностью удовлетворен начиная с 2007 г. При этом объем жилищного кредитования в 2010 г. составит 521 млрд. руб. (в ценах 2010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и банков по кредитованию застройщиков (131 – 137 млрд. руб. в год) существенно отстают от потребности застройщиков и составляют лишь 12 – 15% требуемых объемов кредит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7B91-E652-4100-92CA-5F50DD66C9E6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новные результаты прогнозных оценок (на основе моделирования спроса и предложения на рынке жиль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712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условии проведения необходимых реформ реализованный спрос на жилье, т.е. спрос, обеспеченный предложением, увеличится с 350 млрд. руб. в 2004 г. до 1,9 трлн. руб. в 2010 г. (в текущих ценах), составив в совокупности за рассматриваемый период 5,8 трлн. руб. (в ценах 2003 г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среднем за период с 2004 по 2010 гг. доля реализованного спроса на жилье составит 58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проведении всех реформ доля домохозяйств, которым будет доступно приобретение стандартной квартиры (54 кв. м.) за счет собственных средств и жилищных кредитов, увеличится от всей совокупности домохозяйств с 9% в 2003 г. до 31% в 2010 г. При инерционном варианте эта доля вырастет до 25%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проведении необходимых реформ возможна стабилизация реальных цен на жилье, начиная с 2007 г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7F94-BE1F-4E79-8447-AE3300E2FAEE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намика объемов ввода нового жилья и изменения цен на первичном и вторичном рынках жи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1557360"/>
          <a:ext cx="7920000" cy="4421160"/>
        </p:xfrm>
        <a:graphic>
          <a:graphicData uri="http://schemas.openxmlformats.org/drawingml/2006/table">
            <a:tbl>
              <a:tblPr/>
              <a:tblGrid>
                <a:gridCol w="2367000"/>
                <a:gridCol w="912600"/>
                <a:gridCol w="546120"/>
                <a:gridCol w="557280"/>
                <a:gridCol w="558720"/>
                <a:gridCol w="557280"/>
                <a:gridCol w="558720"/>
                <a:gridCol w="557280"/>
                <a:gridCol w="619200"/>
                <a:gridCol w="68580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. измере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 ввода нового жил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н. кв. м. в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% к пред.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е цены на первичном рынке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е цены на вторичном рынке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яя стоимость строительства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ица между средней ценой жилья на первичном рынке и средней стоимостью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ношение средней цены жилья на первичном рынке и средней стоимости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,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611280" y="6308640"/>
            <a:ext cx="56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Госкомстата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86A6-0CEB-4BF6-B418-D266F0398A8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ка домохозяйствами текущего состояния своего жилья (в % от числа домохозяйств, в среднем по всей выбор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6635520" cy="4899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16000" y="3500280"/>
            <a:ext cx="2016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оссия в цел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D3CA-51CF-41F7-A87A-0DD5AD4CCFE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Удовлетворенность населения жилищными условиями в 2003 г. (в % от домохозяйст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01640"/>
          <a:ext cx="8826480" cy="4861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1640"/>
                    <a:ext cx="8826480" cy="48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C362-4699-4F88-9364-CBA4B7397E3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06:45:38Z</dcterms:created>
  <dc:creator>rogozhina</dc:creator>
  <dc:description/>
  <dc:language>en-US</dc:language>
  <cp:lastModifiedBy>Туманов Андрей</cp:lastModifiedBy>
  <dcterms:modified xsi:type="dcterms:W3CDTF">2004-06-03T08:24:35Z</dcterms:modified>
  <cp:revision>99</cp:revision>
  <dc:subject/>
  <dc:title>Слайд 1</dc:title>
</cp:coreProperties>
</file>